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58660-552C-4207-A553-AFBF53D1BFB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4A44F-5301-4907-8670-00D6CBA3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A370B-9AC5-4B83-A590-166756A41D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46F5F-E8B5-4B1F-A2CD-9A1D2CBAD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3C8D9-1193-4CE4-8598-52BA04A77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071EF-460D-41CB-A57E-45E7215E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88E5F-6D12-4FB6-A8D9-BF2EACC03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15ECE-1EB0-43B7-A9D6-4B307E3F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problema era trovare soluzioni meno olistiche (meglio definite molecolarmente) del trapianto nucleare e della fusione per riprogrammare le cellule somatic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o lavoro e i suoi successori indicavano che fosse possibile riprogrammare attraverso i fattori di trascrizi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Negli ultimi anni si era accumulata conoscenza sull’espressione genica nelle cellule staminali embrionali (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4D31C-D06D-4D6F-AD69-9A653CE96DA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98083-9308-4C65-B90A-6E0AA897102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C3CFE-7DEC-4592-AA41-3712AF0B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A80-48F0-4850-B45C-15471436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87D-A7E0-4C1D-9D14-585EA8A7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294-03F5-463A-8D52-BB836F13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4C3-2035-4A87-92D8-3FD8BBEC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176-9E02-4BF9-9538-8CCF2A0B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22A-3D72-4C48-8F90-4F0BEAA8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43D-61A6-4032-8AD9-6F4A0F4C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879-F1A6-4E35-B4AA-A7A6C02D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CB0-7DE3-469D-9685-6FFB2A3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7CC-3E54-4964-91A9-80F5642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DA5-4896-4374-9D63-224CCD7A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CED-7977-4FCF-9B46-AA36574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95FD3-A482-4384-87AA-BC2DF5F81A0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657360" y="2273400"/>
            <a:ext cx="78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solamento della variabile di intere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magine 1" descr="mouse-rack.jpg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magine 1" descr="Yamanaka Fig 1.jpg"/>
          <p:cNvPicPr/>
          <p:nvPr/>
        </p:nvPicPr>
        <p:blipFill>
          <a:blip r:embed="rId1"/>
          <a:srcRect l="0" t="0" r="0" b="49521"/>
          <a:stretch/>
        </p:blipFill>
        <p:spPr>
          <a:xfrm>
            <a:off x="493560" y="1062000"/>
            <a:ext cx="8588520" cy="4708440"/>
          </a:xfrm>
          <a:prstGeom prst="rect">
            <a:avLst/>
          </a:prstGeom>
          <a:ln w="0">
            <a:noFill/>
          </a:ln>
        </p:spPr>
      </p:pic>
      <p:sp>
        <p:nvSpPr>
          <p:cNvPr id="169" name="CasellaDiTesto 3"/>
          <p:cNvSpPr/>
          <p:nvPr/>
        </p:nvSpPr>
        <p:spPr>
          <a:xfrm>
            <a:off x="6170760" y="351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 esperimento deve isolare una sola variabile, detta </a:t>
            </a:r>
            <a:r>
              <a:rPr b="0" i="1" lang="it-IT" sz="1400" spc="-1" strike="noStrike">
                <a:solidFill>
                  <a:srgbClr val="0000ff"/>
                </a:solidFill>
                <a:latin typeface="Calibri"/>
              </a:rPr>
              <a:t>indipend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magine 1" descr="Yamanaka Fig 2.jpg"/>
          <p:cNvPicPr/>
          <p:nvPr/>
        </p:nvPicPr>
        <p:blipFill>
          <a:blip r:embed="rId1"/>
          <a:stretch/>
        </p:blipFill>
        <p:spPr>
          <a:xfrm>
            <a:off x="471600" y="0"/>
            <a:ext cx="73483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CasellaDiTesto 3"/>
          <p:cNvSpPr/>
          <p:nvPr/>
        </p:nvSpPr>
        <p:spPr>
          <a:xfrm>
            <a:off x="6845400" y="800280"/>
            <a:ext cx="194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 esperimento generalmente deve comprendere controlli positivi e negati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magine 1" descr="Yamanaka Fig 3.jpg"/>
          <p:cNvPicPr/>
          <p:nvPr/>
        </p:nvPicPr>
        <p:blipFill>
          <a:blip r:embed="rId1"/>
          <a:srcRect l="0" t="0" r="49490" b="38031"/>
          <a:stretch/>
        </p:blipFill>
        <p:spPr>
          <a:xfrm>
            <a:off x="2108160" y="585720"/>
            <a:ext cx="49276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CasellaDiTesto 1"/>
          <p:cNvSpPr/>
          <p:nvPr/>
        </p:nvSpPr>
        <p:spPr>
          <a:xfrm>
            <a:off x="1533600" y="42372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uppo 6"/>
          <p:cNvGrpSpPr/>
          <p:nvPr/>
        </p:nvGrpSpPr>
        <p:grpSpPr>
          <a:xfrm>
            <a:off x="890640" y="3776760"/>
            <a:ext cx="2119320" cy="742680"/>
            <a:chOff x="890640" y="3776760"/>
            <a:chExt cx="2119320" cy="742680"/>
          </a:xfrm>
        </p:grpSpPr>
        <p:grpSp>
          <p:nvGrpSpPr>
            <p:cNvPr id="175" name="Gruppo 1"/>
            <p:cNvGrpSpPr/>
            <p:nvPr/>
          </p:nvGrpSpPr>
          <p:grpSpPr>
            <a:xfrm>
              <a:off x="892080" y="3776760"/>
              <a:ext cx="2116080" cy="741240"/>
              <a:chOff x="892080" y="3776760"/>
              <a:chExt cx="2116080" cy="741240"/>
            </a:xfrm>
          </p:grpSpPr>
          <p:sp>
            <p:nvSpPr>
              <p:cNvPr id="176" name="Oval 3"/>
              <p:cNvSpPr/>
              <p:nvPr/>
            </p:nvSpPr>
            <p:spPr>
              <a:xfrm>
                <a:off x="892440" y="3776760"/>
                <a:ext cx="21153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Oval 4"/>
              <p:cNvSpPr/>
              <p:nvPr/>
            </p:nvSpPr>
            <p:spPr>
              <a:xfrm>
                <a:off x="892080" y="4313880"/>
                <a:ext cx="2116080" cy="204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5"/>
              <p:cNvSpPr/>
              <p:nvPr/>
            </p:nvSpPr>
            <p:spPr>
              <a:xfrm>
                <a:off x="8924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0081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AutoShape 7"/>
            <p:cNvSpPr/>
            <p:nvPr/>
          </p:nvSpPr>
          <p:spPr>
            <a:xfrm>
              <a:off x="890640" y="3979080"/>
              <a:ext cx="21193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uppo 6"/>
          <p:cNvGrpSpPr/>
          <p:nvPr/>
        </p:nvGrpSpPr>
        <p:grpSpPr>
          <a:xfrm>
            <a:off x="3513240" y="3776760"/>
            <a:ext cx="2117520" cy="742680"/>
            <a:chOff x="3513240" y="3776760"/>
            <a:chExt cx="2117520" cy="742680"/>
          </a:xfrm>
        </p:grpSpPr>
        <p:grpSp>
          <p:nvGrpSpPr>
            <p:cNvPr id="182" name="Gruppo 1"/>
            <p:cNvGrpSpPr/>
            <p:nvPr/>
          </p:nvGrpSpPr>
          <p:grpSpPr>
            <a:xfrm>
              <a:off x="3514680" y="3776760"/>
              <a:ext cx="2114280" cy="741240"/>
              <a:chOff x="3514680" y="3776760"/>
              <a:chExt cx="2114280" cy="741240"/>
            </a:xfrm>
          </p:grpSpPr>
          <p:sp>
            <p:nvSpPr>
              <p:cNvPr id="183" name="Oval 3"/>
              <p:cNvSpPr/>
              <p:nvPr/>
            </p:nvSpPr>
            <p:spPr>
              <a:xfrm>
                <a:off x="3515040" y="3776760"/>
                <a:ext cx="21135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Oval 4"/>
              <p:cNvSpPr/>
              <p:nvPr/>
            </p:nvSpPr>
            <p:spPr>
              <a:xfrm>
                <a:off x="3514680" y="4313880"/>
                <a:ext cx="2114280" cy="204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Line 5"/>
              <p:cNvSpPr/>
              <p:nvPr/>
            </p:nvSpPr>
            <p:spPr>
              <a:xfrm>
                <a:off x="35150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6"/>
              <p:cNvSpPr/>
              <p:nvPr/>
            </p:nvSpPr>
            <p:spPr>
              <a:xfrm>
                <a:off x="56289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AutoShape 7"/>
            <p:cNvSpPr/>
            <p:nvPr/>
          </p:nvSpPr>
          <p:spPr>
            <a:xfrm>
              <a:off x="3513240" y="3979080"/>
              <a:ext cx="21175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8" name="Picture 24" descr=""/>
          <p:cNvPicPr/>
          <p:nvPr/>
        </p:nvPicPr>
        <p:blipFill>
          <a:blip r:embed="rId3"/>
          <a:stretch/>
        </p:blipFill>
        <p:spPr>
          <a:xfrm>
            <a:off x="1949400" y="1690560"/>
            <a:ext cx="1403280" cy="20131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5"/>
          <p:cNvSpPr/>
          <p:nvPr/>
        </p:nvSpPr>
        <p:spPr>
          <a:xfrm>
            <a:off x="178920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6"/>
          <p:cNvSpPr/>
          <p:nvPr/>
        </p:nvSpPr>
        <p:spPr>
          <a:xfrm>
            <a:off x="1370160" y="54975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7"/>
          <p:cNvSpPr/>
          <p:nvPr/>
        </p:nvSpPr>
        <p:spPr>
          <a:xfrm>
            <a:off x="1798560" y="549756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8"/>
          <p:cNvSpPr/>
          <p:nvPr/>
        </p:nvSpPr>
        <p:spPr>
          <a:xfrm>
            <a:off x="222552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39974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44258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3"/>
          <p:cNvSpPr/>
          <p:nvPr/>
        </p:nvSpPr>
        <p:spPr>
          <a:xfrm>
            <a:off x="485460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37"/>
          <p:cNvSpPr/>
          <p:nvPr/>
        </p:nvSpPr>
        <p:spPr>
          <a:xfrm>
            <a:off x="6284880" y="495468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Variabile indipend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0" descr=""/>
          <p:cNvPicPr/>
          <p:nvPr/>
        </p:nvPicPr>
        <p:blipFill>
          <a:blip r:embed="rId4"/>
          <a:stretch/>
        </p:blipFill>
        <p:spPr>
          <a:xfrm>
            <a:off x="4576680" y="1690560"/>
            <a:ext cx="14032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asellaDiTesto 1"/>
          <p:cNvSpPr/>
          <p:nvPr/>
        </p:nvSpPr>
        <p:spPr>
          <a:xfrm>
            <a:off x="1533600" y="42372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uppo 6"/>
          <p:cNvGrpSpPr/>
          <p:nvPr/>
        </p:nvGrpSpPr>
        <p:grpSpPr>
          <a:xfrm>
            <a:off x="890640" y="3776760"/>
            <a:ext cx="2119320" cy="742680"/>
            <a:chOff x="890640" y="3776760"/>
            <a:chExt cx="2119320" cy="742680"/>
          </a:xfrm>
        </p:grpSpPr>
        <p:grpSp>
          <p:nvGrpSpPr>
            <p:cNvPr id="200" name="Gruppo 1"/>
            <p:cNvGrpSpPr/>
            <p:nvPr/>
          </p:nvGrpSpPr>
          <p:grpSpPr>
            <a:xfrm>
              <a:off x="892080" y="3776760"/>
              <a:ext cx="2116080" cy="741240"/>
              <a:chOff x="892080" y="3776760"/>
              <a:chExt cx="2116080" cy="741240"/>
            </a:xfrm>
          </p:grpSpPr>
          <p:sp>
            <p:nvSpPr>
              <p:cNvPr id="201" name="Oval 3"/>
              <p:cNvSpPr/>
              <p:nvPr/>
            </p:nvSpPr>
            <p:spPr>
              <a:xfrm>
                <a:off x="892440" y="3776760"/>
                <a:ext cx="21153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Oval 4"/>
              <p:cNvSpPr/>
              <p:nvPr/>
            </p:nvSpPr>
            <p:spPr>
              <a:xfrm>
                <a:off x="892080" y="4313880"/>
                <a:ext cx="2116080" cy="204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Line 5"/>
              <p:cNvSpPr/>
              <p:nvPr/>
            </p:nvSpPr>
            <p:spPr>
              <a:xfrm>
                <a:off x="8924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Line 6"/>
              <p:cNvSpPr/>
              <p:nvPr/>
            </p:nvSpPr>
            <p:spPr>
              <a:xfrm>
                <a:off x="30081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AutoShape 7"/>
            <p:cNvSpPr/>
            <p:nvPr/>
          </p:nvSpPr>
          <p:spPr>
            <a:xfrm>
              <a:off x="890640" y="3979080"/>
              <a:ext cx="21193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uppo 6"/>
          <p:cNvGrpSpPr/>
          <p:nvPr/>
        </p:nvGrpSpPr>
        <p:grpSpPr>
          <a:xfrm>
            <a:off x="3513240" y="3776760"/>
            <a:ext cx="2117520" cy="742680"/>
            <a:chOff x="3513240" y="3776760"/>
            <a:chExt cx="2117520" cy="742680"/>
          </a:xfrm>
        </p:grpSpPr>
        <p:grpSp>
          <p:nvGrpSpPr>
            <p:cNvPr id="207" name="Gruppo 1"/>
            <p:cNvGrpSpPr/>
            <p:nvPr/>
          </p:nvGrpSpPr>
          <p:grpSpPr>
            <a:xfrm>
              <a:off x="3514680" y="3776760"/>
              <a:ext cx="2114280" cy="741240"/>
              <a:chOff x="3514680" y="3776760"/>
              <a:chExt cx="2114280" cy="741240"/>
            </a:xfrm>
          </p:grpSpPr>
          <p:sp>
            <p:nvSpPr>
              <p:cNvPr id="208" name="Oval 3"/>
              <p:cNvSpPr/>
              <p:nvPr/>
            </p:nvSpPr>
            <p:spPr>
              <a:xfrm>
                <a:off x="3515040" y="3776760"/>
                <a:ext cx="21135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Oval 4"/>
              <p:cNvSpPr/>
              <p:nvPr/>
            </p:nvSpPr>
            <p:spPr>
              <a:xfrm>
                <a:off x="3514680" y="4313880"/>
                <a:ext cx="2114280" cy="204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Line 5"/>
              <p:cNvSpPr/>
              <p:nvPr/>
            </p:nvSpPr>
            <p:spPr>
              <a:xfrm>
                <a:off x="35150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Line 6"/>
              <p:cNvSpPr/>
              <p:nvPr/>
            </p:nvSpPr>
            <p:spPr>
              <a:xfrm>
                <a:off x="56289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AutoShape 7"/>
            <p:cNvSpPr/>
            <p:nvPr/>
          </p:nvSpPr>
          <p:spPr>
            <a:xfrm>
              <a:off x="3513240" y="3979080"/>
              <a:ext cx="21175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TextBox 25"/>
          <p:cNvSpPr/>
          <p:nvPr/>
        </p:nvSpPr>
        <p:spPr>
          <a:xfrm>
            <a:off x="178920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6284880" y="495468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Variabile indipend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8"/>
          <p:cNvSpPr/>
          <p:nvPr/>
        </p:nvSpPr>
        <p:spPr>
          <a:xfrm>
            <a:off x="6284880" y="549756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432ff"/>
                </a:solidFill>
                <a:latin typeface="Calibri"/>
              </a:rPr>
              <a:t>Variabili dipenden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9"/>
          <p:cNvSpPr/>
          <p:nvPr/>
        </p:nvSpPr>
        <p:spPr>
          <a:xfrm>
            <a:off x="1370160" y="54975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0"/>
          <p:cNvSpPr/>
          <p:nvPr/>
        </p:nvSpPr>
        <p:spPr>
          <a:xfrm>
            <a:off x="1798560" y="5380200"/>
            <a:ext cx="3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1"/>
          <p:cNvSpPr/>
          <p:nvPr/>
        </p:nvSpPr>
        <p:spPr>
          <a:xfrm>
            <a:off x="222552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2"/>
          <p:cNvSpPr/>
          <p:nvPr/>
        </p:nvSpPr>
        <p:spPr>
          <a:xfrm>
            <a:off x="39974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44258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485460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CasellaDiTesto 1"/>
          <p:cNvSpPr/>
          <p:nvPr/>
        </p:nvSpPr>
        <p:spPr>
          <a:xfrm>
            <a:off x="1533600" y="42372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uppo 6"/>
          <p:cNvGrpSpPr/>
          <p:nvPr/>
        </p:nvGrpSpPr>
        <p:grpSpPr>
          <a:xfrm>
            <a:off x="890640" y="3776760"/>
            <a:ext cx="2119320" cy="742680"/>
            <a:chOff x="890640" y="3776760"/>
            <a:chExt cx="2119320" cy="742680"/>
          </a:xfrm>
        </p:grpSpPr>
        <p:grpSp>
          <p:nvGrpSpPr>
            <p:cNvPr id="224" name="Gruppo 1"/>
            <p:cNvGrpSpPr/>
            <p:nvPr/>
          </p:nvGrpSpPr>
          <p:grpSpPr>
            <a:xfrm>
              <a:off x="892080" y="3776760"/>
              <a:ext cx="2116080" cy="741240"/>
              <a:chOff x="892080" y="3776760"/>
              <a:chExt cx="2116080" cy="741240"/>
            </a:xfrm>
          </p:grpSpPr>
          <p:sp>
            <p:nvSpPr>
              <p:cNvPr id="225" name="Oval 3"/>
              <p:cNvSpPr/>
              <p:nvPr/>
            </p:nvSpPr>
            <p:spPr>
              <a:xfrm>
                <a:off x="892440" y="3776760"/>
                <a:ext cx="21153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Oval 4"/>
              <p:cNvSpPr/>
              <p:nvPr/>
            </p:nvSpPr>
            <p:spPr>
              <a:xfrm>
                <a:off x="892080" y="4313880"/>
                <a:ext cx="2116080" cy="204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5"/>
              <p:cNvSpPr/>
              <p:nvPr/>
            </p:nvSpPr>
            <p:spPr>
              <a:xfrm>
                <a:off x="8924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6"/>
              <p:cNvSpPr/>
              <p:nvPr/>
            </p:nvSpPr>
            <p:spPr>
              <a:xfrm>
                <a:off x="30081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9" name="AutoShape 7"/>
            <p:cNvSpPr/>
            <p:nvPr/>
          </p:nvSpPr>
          <p:spPr>
            <a:xfrm>
              <a:off x="890640" y="3979080"/>
              <a:ext cx="21193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uppo 6"/>
          <p:cNvGrpSpPr/>
          <p:nvPr/>
        </p:nvGrpSpPr>
        <p:grpSpPr>
          <a:xfrm>
            <a:off x="3513240" y="3776760"/>
            <a:ext cx="2117520" cy="742680"/>
            <a:chOff x="3513240" y="3776760"/>
            <a:chExt cx="2117520" cy="742680"/>
          </a:xfrm>
        </p:grpSpPr>
        <p:grpSp>
          <p:nvGrpSpPr>
            <p:cNvPr id="231" name="Gruppo 1"/>
            <p:cNvGrpSpPr/>
            <p:nvPr/>
          </p:nvGrpSpPr>
          <p:grpSpPr>
            <a:xfrm>
              <a:off x="3514680" y="3776760"/>
              <a:ext cx="2114280" cy="741240"/>
              <a:chOff x="3514680" y="3776760"/>
              <a:chExt cx="2114280" cy="741240"/>
            </a:xfrm>
          </p:grpSpPr>
          <p:sp>
            <p:nvSpPr>
              <p:cNvPr id="232" name="Oval 3"/>
              <p:cNvSpPr/>
              <p:nvPr/>
            </p:nvSpPr>
            <p:spPr>
              <a:xfrm>
                <a:off x="3515040" y="3776760"/>
                <a:ext cx="21135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Oval 4"/>
              <p:cNvSpPr/>
              <p:nvPr/>
            </p:nvSpPr>
            <p:spPr>
              <a:xfrm>
                <a:off x="3514680" y="4313880"/>
                <a:ext cx="2114280" cy="204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5"/>
              <p:cNvSpPr/>
              <p:nvPr/>
            </p:nvSpPr>
            <p:spPr>
              <a:xfrm>
                <a:off x="35150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6"/>
              <p:cNvSpPr/>
              <p:nvPr/>
            </p:nvSpPr>
            <p:spPr>
              <a:xfrm>
                <a:off x="56289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AutoShape 7"/>
            <p:cNvSpPr/>
            <p:nvPr/>
          </p:nvSpPr>
          <p:spPr>
            <a:xfrm>
              <a:off x="3513240" y="3979080"/>
              <a:ext cx="21175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TextBox 25"/>
          <p:cNvSpPr/>
          <p:nvPr/>
        </p:nvSpPr>
        <p:spPr>
          <a:xfrm>
            <a:off x="178920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41"/>
          <p:cNvSpPr/>
          <p:nvPr/>
        </p:nvSpPr>
        <p:spPr>
          <a:xfrm>
            <a:off x="702792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8f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4086360" y="2386080"/>
            <a:ext cx="9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"/>
          <p:cNvGrpSpPr/>
          <p:nvPr/>
        </p:nvGrpSpPr>
        <p:grpSpPr>
          <a:xfrm>
            <a:off x="6129360" y="2465280"/>
            <a:ext cx="2119320" cy="2054160"/>
            <a:chOff x="6129360" y="2465280"/>
            <a:chExt cx="2119320" cy="2054160"/>
          </a:xfrm>
        </p:grpSpPr>
        <p:grpSp>
          <p:nvGrpSpPr>
            <p:cNvPr id="241" name="Gruppo 6"/>
            <p:cNvGrpSpPr/>
            <p:nvPr/>
          </p:nvGrpSpPr>
          <p:grpSpPr>
            <a:xfrm>
              <a:off x="6129360" y="3776400"/>
              <a:ext cx="2119320" cy="743040"/>
              <a:chOff x="6129360" y="3776400"/>
              <a:chExt cx="2119320" cy="743040"/>
            </a:xfrm>
          </p:grpSpPr>
          <p:grpSp>
            <p:nvGrpSpPr>
              <p:cNvPr id="242" name="Gruppo 1"/>
              <p:cNvGrpSpPr/>
              <p:nvPr/>
            </p:nvGrpSpPr>
            <p:grpSpPr>
              <a:xfrm>
                <a:off x="6130800" y="3776400"/>
                <a:ext cx="2116080" cy="741600"/>
                <a:chOff x="6130800" y="3776400"/>
                <a:chExt cx="2116080" cy="741600"/>
              </a:xfrm>
            </p:grpSpPr>
            <p:sp>
              <p:nvSpPr>
                <p:cNvPr id="243" name="Oval 3"/>
                <p:cNvSpPr/>
                <p:nvPr/>
              </p:nvSpPr>
              <p:spPr>
                <a:xfrm>
                  <a:off x="6131160" y="3776400"/>
                  <a:ext cx="2115360" cy="204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Oval 4"/>
                <p:cNvSpPr/>
                <p:nvPr/>
              </p:nvSpPr>
              <p:spPr>
                <a:xfrm>
                  <a:off x="6130800" y="4313520"/>
                  <a:ext cx="2116080" cy="2044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Line 5"/>
                <p:cNvSpPr/>
                <p:nvPr/>
              </p:nvSpPr>
              <p:spPr>
                <a:xfrm>
                  <a:off x="6131160" y="3878640"/>
                  <a:ext cx="0" cy="53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Line 6"/>
                <p:cNvSpPr/>
                <p:nvPr/>
              </p:nvSpPr>
              <p:spPr>
                <a:xfrm>
                  <a:off x="8246880" y="3878640"/>
                  <a:ext cx="0" cy="53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47" name="AutoShape 7"/>
              <p:cNvSpPr/>
              <p:nvPr/>
            </p:nvSpPr>
            <p:spPr>
              <a:xfrm>
                <a:off x="6129360" y="3978720"/>
                <a:ext cx="2119320" cy="540720"/>
              </a:xfrm>
              <a:prstGeom prst="can">
                <a:avLst>
                  <a:gd name="adj" fmla="val 39259"/>
                </a:avLst>
              </a:prstGeom>
              <a:solidFill>
                <a:srgbClr val="ff71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8" name="TextBox 47"/>
            <p:cNvSpPr/>
            <p:nvPr/>
          </p:nvSpPr>
          <p:spPr>
            <a:xfrm>
              <a:off x="6724440" y="2465280"/>
              <a:ext cx="97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TextBox 44"/>
          <p:cNvSpPr/>
          <p:nvPr/>
        </p:nvSpPr>
        <p:spPr>
          <a:xfrm>
            <a:off x="1370160" y="54975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1798560" y="5380200"/>
            <a:ext cx="3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46"/>
          <p:cNvSpPr/>
          <p:nvPr/>
        </p:nvSpPr>
        <p:spPr>
          <a:xfrm>
            <a:off x="222552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39974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8"/>
          <p:cNvSpPr/>
          <p:nvPr/>
        </p:nvSpPr>
        <p:spPr>
          <a:xfrm>
            <a:off x="44258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9"/>
          <p:cNvSpPr/>
          <p:nvPr/>
        </p:nvSpPr>
        <p:spPr>
          <a:xfrm>
            <a:off x="485460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50"/>
          <p:cNvSpPr/>
          <p:nvPr/>
        </p:nvSpPr>
        <p:spPr>
          <a:xfrm>
            <a:off x="6615000" y="5380200"/>
            <a:ext cx="3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51"/>
          <p:cNvSpPr/>
          <p:nvPr/>
        </p:nvSpPr>
        <p:spPr>
          <a:xfrm>
            <a:off x="7043760" y="5380200"/>
            <a:ext cx="3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2"/>
          <p:cNvSpPr/>
          <p:nvPr/>
        </p:nvSpPr>
        <p:spPr>
          <a:xfrm>
            <a:off x="7472520" y="5380200"/>
            <a:ext cx="3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22"/>
          <p:cNvSpPr/>
          <p:nvPr/>
        </p:nvSpPr>
        <p:spPr>
          <a:xfrm>
            <a:off x="3109320" y="609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CasellaDiTesto 2"/>
          <p:cNvSpPr/>
          <p:nvPr/>
        </p:nvSpPr>
        <p:spPr>
          <a:xfrm>
            <a:off x="601560" y="1254240"/>
            <a:ext cx="794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erificare l’attività trascrizionale di E2F-1 nel nostro sistema speriment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uppo 6"/>
          <p:cNvGrpSpPr/>
          <p:nvPr/>
        </p:nvGrpSpPr>
        <p:grpSpPr>
          <a:xfrm>
            <a:off x="3692520" y="5048280"/>
            <a:ext cx="1413000" cy="495360"/>
            <a:chOff x="3692520" y="5048280"/>
            <a:chExt cx="1413000" cy="495360"/>
          </a:xfrm>
        </p:grpSpPr>
        <p:grpSp>
          <p:nvGrpSpPr>
            <p:cNvPr id="261" name="Gruppo 1"/>
            <p:cNvGrpSpPr/>
            <p:nvPr/>
          </p:nvGrpSpPr>
          <p:grpSpPr>
            <a:xfrm>
              <a:off x="3693600" y="5048280"/>
              <a:ext cx="1410840" cy="494280"/>
              <a:chOff x="3693600" y="5048280"/>
              <a:chExt cx="1410840" cy="494280"/>
            </a:xfrm>
          </p:grpSpPr>
          <p:sp>
            <p:nvSpPr>
              <p:cNvPr id="262" name="Oval 3"/>
              <p:cNvSpPr/>
              <p:nvPr/>
            </p:nvSpPr>
            <p:spPr>
              <a:xfrm>
                <a:off x="3693960" y="5048280"/>
                <a:ext cx="141048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Oval 4"/>
              <p:cNvSpPr/>
              <p:nvPr/>
            </p:nvSpPr>
            <p:spPr>
              <a:xfrm>
                <a:off x="3693600" y="5406480"/>
                <a:ext cx="1410840" cy="136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Line 5"/>
              <p:cNvSpPr/>
              <p:nvPr/>
            </p:nvSpPr>
            <p:spPr>
              <a:xfrm>
                <a:off x="3693960" y="5116320"/>
                <a:ext cx="0" cy="3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Line 6"/>
              <p:cNvSpPr/>
              <p:nvPr/>
            </p:nvSpPr>
            <p:spPr>
              <a:xfrm>
                <a:off x="5104440" y="5116320"/>
                <a:ext cx="0" cy="3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6" name="AutoShape 7"/>
            <p:cNvSpPr/>
            <p:nvPr/>
          </p:nvSpPr>
          <p:spPr>
            <a:xfrm>
              <a:off x="3692520" y="5183280"/>
              <a:ext cx="1413000" cy="36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uppo 34"/>
          <p:cNvGrpSpPr/>
          <p:nvPr/>
        </p:nvGrpSpPr>
        <p:grpSpPr>
          <a:xfrm>
            <a:off x="2252520" y="3719520"/>
            <a:ext cx="1903680" cy="1103400"/>
            <a:chOff x="2252520" y="3719520"/>
            <a:chExt cx="1903680" cy="1103400"/>
          </a:xfrm>
        </p:grpSpPr>
        <p:grpSp>
          <p:nvGrpSpPr>
            <p:cNvPr id="268" name="Gruppo 13"/>
            <p:cNvGrpSpPr/>
            <p:nvPr/>
          </p:nvGrpSpPr>
          <p:grpSpPr>
            <a:xfrm>
              <a:off x="2252520" y="3719520"/>
              <a:ext cx="676800" cy="677880"/>
              <a:chOff x="2252520" y="3719520"/>
              <a:chExt cx="676800" cy="677880"/>
            </a:xfrm>
          </p:grpSpPr>
          <p:sp>
            <p:nvSpPr>
              <p:cNvPr id="269" name="Ovale 14"/>
              <p:cNvSpPr/>
              <p:nvPr/>
            </p:nvSpPr>
            <p:spPr>
              <a:xfrm>
                <a:off x="2252520" y="3719520"/>
                <a:ext cx="676800" cy="67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CasellaDiTesto 15"/>
              <p:cNvSpPr/>
              <p:nvPr/>
            </p:nvSpPr>
            <p:spPr>
              <a:xfrm>
                <a:off x="2298600" y="390420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libri"/>
                  </a:rPr>
                  <a:t>E2F-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71" name="Connettore 2 30"/>
            <p:cNvCxnSpPr/>
            <p:nvPr/>
          </p:nvCxnSpPr>
          <p:spPr>
            <a:xfrm>
              <a:off x="3117960" y="4292280"/>
              <a:ext cx="1038600" cy="5310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72" name="Gruppo 35"/>
          <p:cNvGrpSpPr/>
          <p:nvPr/>
        </p:nvGrpSpPr>
        <p:grpSpPr>
          <a:xfrm>
            <a:off x="3286080" y="2801880"/>
            <a:ext cx="3684600" cy="2021040"/>
            <a:chOff x="3286080" y="2801880"/>
            <a:chExt cx="3684600" cy="2021040"/>
          </a:xfrm>
        </p:grpSpPr>
        <p:grpSp>
          <p:nvGrpSpPr>
            <p:cNvPr id="273" name="Gruppo 28"/>
            <p:cNvGrpSpPr/>
            <p:nvPr/>
          </p:nvGrpSpPr>
          <p:grpSpPr>
            <a:xfrm>
              <a:off x="3286080" y="2801880"/>
              <a:ext cx="3684600" cy="316800"/>
              <a:chOff x="3286080" y="2801880"/>
              <a:chExt cx="3684600" cy="316800"/>
            </a:xfrm>
          </p:grpSpPr>
          <p:sp>
            <p:nvSpPr>
              <p:cNvPr id="274" name="Connettore 1 17"/>
              <p:cNvSpPr/>
              <p:nvPr/>
            </p:nvSpPr>
            <p:spPr>
              <a:xfrm>
                <a:off x="3286080" y="2955600"/>
                <a:ext cx="42372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5" name="Gruppo 24"/>
              <p:cNvGrpSpPr/>
              <p:nvPr/>
            </p:nvGrpSpPr>
            <p:grpSpPr>
              <a:xfrm>
                <a:off x="3718800" y="2801880"/>
                <a:ext cx="1515240" cy="312480"/>
                <a:chOff x="3718800" y="2801880"/>
                <a:chExt cx="1515240" cy="312480"/>
              </a:xfrm>
            </p:grpSpPr>
            <p:sp>
              <p:nvSpPr>
                <p:cNvPr id="276" name="Rettangolo 18"/>
                <p:cNvSpPr/>
                <p:nvPr/>
              </p:nvSpPr>
              <p:spPr>
                <a:xfrm>
                  <a:off x="3718800" y="2801880"/>
                  <a:ext cx="1515240" cy="307800"/>
                </a:xfrm>
                <a:prstGeom prst="rect">
                  <a:avLst/>
                </a:prstGeom>
                <a:solidFill>
                  <a:srgbClr val="ffffff"/>
                </a:solidFill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8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Calibri"/>
                    </a:rPr>
                    <a:t>E”F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CasellaDiTesto 21"/>
                <p:cNvSpPr/>
                <p:nvPr/>
              </p:nvSpPr>
              <p:spPr>
                <a:xfrm>
                  <a:off x="3818160" y="2807280"/>
                  <a:ext cx="1316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1400" spc="-1" strike="noStrike">
                      <a:solidFill>
                        <a:srgbClr val="000000"/>
                      </a:solidFill>
                      <a:latin typeface="Calibri"/>
                    </a:rPr>
                    <a:t>E2F binding sit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8" name="Connettore 1 22"/>
              <p:cNvSpPr/>
              <p:nvPr/>
            </p:nvSpPr>
            <p:spPr>
              <a:xfrm>
                <a:off x="5243400" y="2955600"/>
                <a:ext cx="21240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ettangolo 26"/>
              <p:cNvSpPr/>
              <p:nvPr/>
            </p:nvSpPr>
            <p:spPr>
              <a:xfrm>
                <a:off x="5456160" y="2801880"/>
                <a:ext cx="1514520" cy="307800"/>
              </a:xfrm>
              <a:prstGeom prst="rect">
                <a:avLst/>
              </a:prstGeom>
              <a:solidFill>
                <a:srgbClr val="ffff00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8000"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E”F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CasellaDiTesto 27"/>
              <p:cNvSpPr/>
              <p:nvPr/>
            </p:nvSpPr>
            <p:spPr>
              <a:xfrm>
                <a:off x="5547960" y="2811600"/>
                <a:ext cx="134064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libri"/>
                  </a:rPr>
                  <a:t>Luciferas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81" name="Connettore 2 31"/>
            <p:cNvCxnSpPr/>
            <p:nvPr/>
          </p:nvCxnSpPr>
          <p:spPr>
            <a:xfrm flipH="1">
              <a:off x="4647240" y="3455640"/>
              <a:ext cx="586440" cy="13676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CasellaDiTesto 4"/>
          <p:cNvSpPr/>
          <p:nvPr/>
        </p:nvSpPr>
        <p:spPr>
          <a:xfrm>
            <a:off x="604800" y="47084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2F-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CasellaDiTesto 5"/>
          <p:cNvSpPr/>
          <p:nvPr/>
        </p:nvSpPr>
        <p:spPr>
          <a:xfrm>
            <a:off x="490680" y="5003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-E2F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ttangolo 9"/>
          <p:cNvSpPr/>
          <p:nvPr/>
        </p:nvSpPr>
        <p:spPr>
          <a:xfrm>
            <a:off x="1905120" y="4764240"/>
            <a:ext cx="285732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ttangolo 11"/>
          <p:cNvSpPr/>
          <p:nvPr/>
        </p:nvSpPr>
        <p:spPr>
          <a:xfrm>
            <a:off x="3054240" y="5059440"/>
            <a:ext cx="54000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4" descr=""/>
          <p:cNvPicPr/>
          <p:nvPr/>
        </p:nvPicPr>
        <p:blipFill>
          <a:blip r:embed="rId1"/>
          <a:srcRect l="4695" t="0" r="0" b="0"/>
          <a:stretch/>
        </p:blipFill>
        <p:spPr>
          <a:xfrm>
            <a:off x="1411200" y="517680"/>
            <a:ext cx="6650280" cy="41972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5"/>
          <p:cNvSpPr/>
          <p:nvPr/>
        </p:nvSpPr>
        <p:spPr>
          <a:xfrm>
            <a:off x="1130400" y="44132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ttangolo 11"/>
          <p:cNvSpPr/>
          <p:nvPr/>
        </p:nvSpPr>
        <p:spPr>
          <a:xfrm>
            <a:off x="6164280" y="50594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ttangolo 19"/>
          <p:cNvSpPr/>
          <p:nvPr/>
        </p:nvSpPr>
        <p:spPr>
          <a:xfrm>
            <a:off x="3762360" y="414360"/>
            <a:ext cx="4451400" cy="54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1130400" y="658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0"/>
          <p:cNvSpPr/>
          <p:nvPr/>
        </p:nvSpPr>
        <p:spPr>
          <a:xfrm>
            <a:off x="1130400" y="128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1"/>
          <p:cNvSpPr/>
          <p:nvPr/>
        </p:nvSpPr>
        <p:spPr>
          <a:xfrm>
            <a:off x="1130400" y="1909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32"/>
          <p:cNvSpPr/>
          <p:nvPr/>
        </p:nvSpPr>
        <p:spPr>
          <a:xfrm>
            <a:off x="1130400" y="25369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35"/>
          <p:cNvSpPr/>
          <p:nvPr/>
        </p:nvSpPr>
        <p:spPr>
          <a:xfrm>
            <a:off x="1130400" y="317016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36"/>
          <p:cNvSpPr/>
          <p:nvPr/>
        </p:nvSpPr>
        <p:spPr>
          <a:xfrm>
            <a:off x="1130400" y="37958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6"/>
          <p:cNvSpPr/>
          <p:nvPr/>
        </p:nvSpPr>
        <p:spPr>
          <a:xfrm rot="16200000">
            <a:off x="-257400" y="241956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minescenza (unità arbitrari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asellaDiTesto 4"/>
          <p:cNvSpPr/>
          <p:nvPr/>
        </p:nvSpPr>
        <p:spPr>
          <a:xfrm>
            <a:off x="604800" y="47084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2F-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asellaDiTesto 5"/>
          <p:cNvSpPr/>
          <p:nvPr/>
        </p:nvSpPr>
        <p:spPr>
          <a:xfrm>
            <a:off x="490680" y="5003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-E2F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ttangolo 9"/>
          <p:cNvSpPr/>
          <p:nvPr/>
        </p:nvSpPr>
        <p:spPr>
          <a:xfrm>
            <a:off x="1905120" y="4764240"/>
            <a:ext cx="285732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ttangolo 11"/>
          <p:cNvSpPr/>
          <p:nvPr/>
        </p:nvSpPr>
        <p:spPr>
          <a:xfrm>
            <a:off x="3054240" y="5059440"/>
            <a:ext cx="54000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6" descr=""/>
          <p:cNvPicPr/>
          <p:nvPr/>
        </p:nvPicPr>
        <p:blipFill>
          <a:blip r:embed="rId1"/>
          <a:srcRect l="4695" t="0" r="0" b="0"/>
          <a:stretch/>
        </p:blipFill>
        <p:spPr>
          <a:xfrm>
            <a:off x="1411200" y="517680"/>
            <a:ext cx="6650280" cy="41972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7"/>
          <p:cNvSpPr/>
          <p:nvPr/>
        </p:nvSpPr>
        <p:spPr>
          <a:xfrm>
            <a:off x="1130400" y="44132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ttangolo 11"/>
          <p:cNvSpPr/>
          <p:nvPr/>
        </p:nvSpPr>
        <p:spPr>
          <a:xfrm>
            <a:off x="6164280" y="50594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CasellaDiTesto 7"/>
          <p:cNvSpPr/>
          <p:nvPr/>
        </p:nvSpPr>
        <p:spPr>
          <a:xfrm>
            <a:off x="490680" y="529920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 vuo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ttangolo 11"/>
          <p:cNvSpPr/>
          <p:nvPr/>
        </p:nvSpPr>
        <p:spPr>
          <a:xfrm>
            <a:off x="410688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ttangolo 11"/>
          <p:cNvSpPr/>
          <p:nvPr/>
        </p:nvSpPr>
        <p:spPr>
          <a:xfrm>
            <a:off x="720720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ttangolo 19"/>
          <p:cNvSpPr/>
          <p:nvPr/>
        </p:nvSpPr>
        <p:spPr>
          <a:xfrm>
            <a:off x="4916520" y="414360"/>
            <a:ext cx="3297240" cy="54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9"/>
          <p:cNvSpPr/>
          <p:nvPr/>
        </p:nvSpPr>
        <p:spPr>
          <a:xfrm>
            <a:off x="1130400" y="658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0"/>
          <p:cNvSpPr/>
          <p:nvPr/>
        </p:nvSpPr>
        <p:spPr>
          <a:xfrm>
            <a:off x="1130400" y="128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31"/>
          <p:cNvSpPr/>
          <p:nvPr/>
        </p:nvSpPr>
        <p:spPr>
          <a:xfrm>
            <a:off x="1130400" y="1909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32"/>
          <p:cNvSpPr/>
          <p:nvPr/>
        </p:nvSpPr>
        <p:spPr>
          <a:xfrm>
            <a:off x="1130400" y="25369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5"/>
          <p:cNvSpPr/>
          <p:nvPr/>
        </p:nvSpPr>
        <p:spPr>
          <a:xfrm>
            <a:off x="1130400" y="317016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6"/>
          <p:cNvSpPr/>
          <p:nvPr/>
        </p:nvSpPr>
        <p:spPr>
          <a:xfrm>
            <a:off x="1130400" y="37958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6"/>
          <p:cNvSpPr/>
          <p:nvPr/>
        </p:nvSpPr>
        <p:spPr>
          <a:xfrm rot="16200000">
            <a:off x="-257400" y="241956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minescenza (unità arbitrari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Introduzione.jpg"/>
          <p:cNvPicPr/>
          <p:nvPr/>
        </p:nvPicPr>
        <p:blipFill>
          <a:blip r:embed="rId1"/>
          <a:stretch/>
        </p:blipFill>
        <p:spPr>
          <a:xfrm>
            <a:off x="2170080" y="216000"/>
            <a:ext cx="48038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CasellaDiTesto 4"/>
          <p:cNvSpPr/>
          <p:nvPr/>
        </p:nvSpPr>
        <p:spPr>
          <a:xfrm>
            <a:off x="604800" y="47084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2F-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asellaDiTesto 5"/>
          <p:cNvSpPr/>
          <p:nvPr/>
        </p:nvSpPr>
        <p:spPr>
          <a:xfrm>
            <a:off x="490680" y="5003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-E2F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asellaDiTesto 7"/>
          <p:cNvSpPr/>
          <p:nvPr/>
        </p:nvSpPr>
        <p:spPr>
          <a:xfrm>
            <a:off x="490680" y="529920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 vuo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asellaDiTesto 8"/>
          <p:cNvSpPr/>
          <p:nvPr/>
        </p:nvSpPr>
        <p:spPr>
          <a:xfrm>
            <a:off x="490680" y="559440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ttangolo 9"/>
          <p:cNvSpPr/>
          <p:nvPr/>
        </p:nvSpPr>
        <p:spPr>
          <a:xfrm>
            <a:off x="1905120" y="4764240"/>
            <a:ext cx="285732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ttangolo 11"/>
          <p:cNvSpPr/>
          <p:nvPr/>
        </p:nvSpPr>
        <p:spPr>
          <a:xfrm>
            <a:off x="3054240" y="5059440"/>
            <a:ext cx="54000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uppo 17"/>
          <p:cNvGrpSpPr/>
          <p:nvPr/>
        </p:nvGrpSpPr>
        <p:grpSpPr>
          <a:xfrm>
            <a:off x="1297080" y="750960"/>
            <a:ext cx="460440" cy="3733920"/>
            <a:chOff x="1297080" y="750960"/>
            <a:chExt cx="460440" cy="3733920"/>
          </a:xfrm>
        </p:grpSpPr>
        <p:sp>
          <p:nvSpPr>
            <p:cNvPr id="322" name="CasellaDiTesto 18"/>
            <p:cNvSpPr/>
            <p:nvPr/>
          </p:nvSpPr>
          <p:spPr>
            <a:xfrm>
              <a:off x="1297080" y="417780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CasellaDiTesto 19"/>
            <p:cNvSpPr/>
            <p:nvPr/>
          </p:nvSpPr>
          <p:spPr>
            <a:xfrm>
              <a:off x="1297080" y="360216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CasellaDiTesto 20"/>
            <p:cNvSpPr/>
            <p:nvPr/>
          </p:nvSpPr>
          <p:spPr>
            <a:xfrm>
              <a:off x="1297080" y="304848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CasellaDiTesto 21"/>
            <p:cNvSpPr/>
            <p:nvPr/>
          </p:nvSpPr>
          <p:spPr>
            <a:xfrm>
              <a:off x="1297080" y="247284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CasellaDiTesto 22"/>
            <p:cNvSpPr/>
            <p:nvPr/>
          </p:nvSpPr>
          <p:spPr>
            <a:xfrm>
              <a:off x="1297080" y="190980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CasellaDiTesto 23"/>
            <p:cNvSpPr/>
            <p:nvPr/>
          </p:nvSpPr>
          <p:spPr>
            <a:xfrm>
              <a:off x="1297080" y="133416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CasellaDiTesto 24"/>
            <p:cNvSpPr/>
            <p:nvPr/>
          </p:nvSpPr>
          <p:spPr>
            <a:xfrm>
              <a:off x="1297080" y="75096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9" name="Picture 4" descr=""/>
          <p:cNvPicPr/>
          <p:nvPr/>
        </p:nvPicPr>
        <p:blipFill>
          <a:blip r:embed="rId1"/>
          <a:srcRect l="4695" t="0" r="0" b="0"/>
          <a:stretch/>
        </p:blipFill>
        <p:spPr>
          <a:xfrm>
            <a:off x="1411200" y="517680"/>
            <a:ext cx="6650280" cy="41972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1130400" y="44132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29"/>
          <p:cNvSpPr/>
          <p:nvPr/>
        </p:nvSpPr>
        <p:spPr>
          <a:xfrm>
            <a:off x="1130400" y="658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130400" y="128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130400" y="1909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1130400" y="25369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5"/>
          <p:cNvSpPr/>
          <p:nvPr/>
        </p:nvSpPr>
        <p:spPr>
          <a:xfrm>
            <a:off x="1130400" y="317016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36"/>
          <p:cNvSpPr/>
          <p:nvPr/>
        </p:nvSpPr>
        <p:spPr>
          <a:xfrm>
            <a:off x="1130400" y="37958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6"/>
          <p:cNvSpPr/>
          <p:nvPr/>
        </p:nvSpPr>
        <p:spPr>
          <a:xfrm rot="16200000">
            <a:off x="-257400" y="241956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minescenza (unità arbitrari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ttangolo 11"/>
          <p:cNvSpPr/>
          <p:nvPr/>
        </p:nvSpPr>
        <p:spPr>
          <a:xfrm>
            <a:off x="410688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ttangolo 11"/>
          <p:cNvSpPr/>
          <p:nvPr/>
        </p:nvSpPr>
        <p:spPr>
          <a:xfrm>
            <a:off x="6164280" y="50594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ttangolo 11"/>
          <p:cNvSpPr/>
          <p:nvPr/>
        </p:nvSpPr>
        <p:spPr>
          <a:xfrm>
            <a:off x="720720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ttangolo 9"/>
          <p:cNvSpPr/>
          <p:nvPr/>
        </p:nvSpPr>
        <p:spPr>
          <a:xfrm>
            <a:off x="5005440" y="5649840"/>
            <a:ext cx="2859120" cy="19548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37"/>
          <p:cNvGrpSpPr/>
          <p:nvPr/>
        </p:nvGrpSpPr>
        <p:grpSpPr>
          <a:xfrm>
            <a:off x="4278240" y="2998800"/>
            <a:ext cx="3274920" cy="650880"/>
            <a:chOff x="4278240" y="2998800"/>
            <a:chExt cx="3274920" cy="650880"/>
          </a:xfrm>
        </p:grpSpPr>
        <p:grpSp>
          <p:nvGrpSpPr>
            <p:cNvPr id="343" name="Group 26"/>
            <p:cNvGrpSpPr/>
            <p:nvPr/>
          </p:nvGrpSpPr>
          <p:grpSpPr>
            <a:xfrm>
              <a:off x="4278240" y="3490560"/>
              <a:ext cx="3274920" cy="159120"/>
              <a:chOff x="4278240" y="3490560"/>
              <a:chExt cx="3274920" cy="159120"/>
            </a:xfrm>
          </p:grpSpPr>
          <p:sp>
            <p:nvSpPr>
              <p:cNvPr id="344" name="Straight Connector 23"/>
              <p:cNvSpPr/>
              <p:nvPr/>
            </p:nvSpPr>
            <p:spPr>
              <a:xfrm>
                <a:off x="4278240" y="3490560"/>
                <a:ext cx="3274920" cy="0"/>
              </a:xfrm>
              <a:prstGeom prst="line">
                <a:avLst/>
              </a:prstGeom>
              <a:ln w="25560">
                <a:solidFill>
                  <a:srgbClr val="ff2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Straight Connector 25"/>
              <p:cNvSpPr/>
              <p:nvPr/>
            </p:nvSpPr>
            <p:spPr>
              <a:xfrm>
                <a:off x="4286160" y="3490560"/>
                <a:ext cx="0" cy="159120"/>
              </a:xfrm>
              <a:prstGeom prst="line">
                <a:avLst/>
              </a:prstGeom>
              <a:ln w="25560">
                <a:solidFill>
                  <a:srgbClr val="ff2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Straight Connector 53"/>
              <p:cNvSpPr/>
              <p:nvPr/>
            </p:nvSpPr>
            <p:spPr>
              <a:xfrm>
                <a:off x="7545240" y="3490560"/>
                <a:ext cx="0" cy="159120"/>
              </a:xfrm>
              <a:prstGeom prst="line">
                <a:avLst/>
              </a:prstGeom>
              <a:ln w="25560">
                <a:solidFill>
                  <a:srgbClr val="ff2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TextBox 27"/>
            <p:cNvSpPr/>
            <p:nvPr/>
          </p:nvSpPr>
          <p:spPr>
            <a:xfrm>
              <a:off x="4294080" y="2998800"/>
              <a:ext cx="32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600" spc="-1" strike="noStrike">
                  <a:solidFill>
                    <a:srgbClr val="ff2600"/>
                  </a:solidFill>
                  <a:latin typeface="Calibri"/>
                </a:rPr>
                <a:t>Controlli negativi biologic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ttangolo 22"/>
          <p:cNvSpPr/>
          <p:nvPr/>
        </p:nvSpPr>
        <p:spPr>
          <a:xfrm>
            <a:off x="3241080" y="32220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ossibili controlli tecn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CasellaDiTesto 2"/>
          <p:cNvSpPr/>
          <p:nvPr/>
        </p:nvSpPr>
        <p:spPr>
          <a:xfrm>
            <a:off x="1547640" y="53751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lo positivo: aggiungere luciferasi alla miscela di re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lo negativo: non trasfettare il vettore con la lucifera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Gruppo 12"/>
          <p:cNvGrpSpPr/>
          <p:nvPr/>
        </p:nvGrpSpPr>
        <p:grpSpPr>
          <a:xfrm>
            <a:off x="1465200" y="1119240"/>
            <a:ext cx="6425280" cy="4057560"/>
            <a:chOff x="1465200" y="1119240"/>
            <a:chExt cx="6425280" cy="4057560"/>
          </a:xfrm>
        </p:grpSpPr>
        <p:grpSp>
          <p:nvGrpSpPr>
            <p:cNvPr id="351" name="Gruppo 6"/>
            <p:cNvGrpSpPr/>
            <p:nvPr/>
          </p:nvGrpSpPr>
          <p:grpSpPr>
            <a:xfrm>
              <a:off x="1465200" y="1119240"/>
              <a:ext cx="6232680" cy="4057560"/>
              <a:chOff x="1465200" y="1119240"/>
              <a:chExt cx="6232680" cy="4057560"/>
            </a:xfrm>
          </p:grpSpPr>
          <p:pic>
            <p:nvPicPr>
              <p:cNvPr id="352" name="Immagine 3" descr="Luciferase assay.jpg"/>
              <p:cNvPicPr/>
              <p:nvPr/>
            </p:nvPicPr>
            <p:blipFill>
              <a:blip r:embed="rId1"/>
              <a:srcRect l="0" t="0" r="0" b="8021"/>
              <a:stretch/>
            </p:blipFill>
            <p:spPr>
              <a:xfrm>
                <a:off x="1465200" y="1119240"/>
                <a:ext cx="6214680" cy="40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Figura a mano libera 4"/>
              <p:cNvSpPr/>
              <p:nvPr/>
            </p:nvSpPr>
            <p:spPr>
              <a:xfrm>
                <a:off x="5243760" y="2414520"/>
                <a:ext cx="2454120" cy="817560"/>
              </a:xfrm>
              <a:custGeom>
                <a:avLst/>
                <a:gdLst/>
                <a:ahLst/>
                <a:rect l="l" t="t" r="r" b="b"/>
                <a:pathLst>
                  <a:path w="2453473" h="817861">
                    <a:moveTo>
                      <a:pt x="0" y="798617"/>
                    </a:moveTo>
                    <a:lnTo>
                      <a:pt x="48107" y="0"/>
                    </a:lnTo>
                    <a:lnTo>
                      <a:pt x="2453473" y="0"/>
                    </a:lnTo>
                    <a:lnTo>
                      <a:pt x="2453473" y="817861"/>
                    </a:lnTo>
                    <a:lnTo>
                      <a:pt x="0" y="7986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igura a mano libera 5"/>
              <p:cNvSpPr/>
              <p:nvPr/>
            </p:nvSpPr>
            <p:spPr>
              <a:xfrm>
                <a:off x="4648320" y="3656160"/>
                <a:ext cx="2030400" cy="1520640"/>
              </a:xfrm>
              <a:custGeom>
                <a:avLst/>
                <a:gdLst/>
                <a:ahLst/>
                <a:rect l="l" t="t" r="r" b="b"/>
                <a:pathLst>
                  <a:path w="2030129" h="1520258">
                    <a:moveTo>
                      <a:pt x="0" y="0"/>
                    </a:moveTo>
                    <a:lnTo>
                      <a:pt x="0" y="192438"/>
                    </a:lnTo>
                    <a:lnTo>
                      <a:pt x="365615" y="279035"/>
                    </a:lnTo>
                    <a:lnTo>
                      <a:pt x="365615" y="683154"/>
                    </a:lnTo>
                    <a:lnTo>
                      <a:pt x="683124" y="712019"/>
                    </a:lnTo>
                    <a:lnTo>
                      <a:pt x="673502" y="1520258"/>
                    </a:lnTo>
                    <a:lnTo>
                      <a:pt x="2030129" y="1510636"/>
                    </a:lnTo>
                    <a:lnTo>
                      <a:pt x="20108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Freccia circolare a destra 7"/>
            <p:cNvSpPr/>
            <p:nvPr/>
          </p:nvSpPr>
          <p:spPr>
            <a:xfrm rot="19521000">
              <a:off x="2001240" y="3794040"/>
              <a:ext cx="596880" cy="1193760"/>
            </a:xfrm>
            <a:custGeom>
              <a:avLst/>
              <a:gdLst>
                <a:gd name="textAreaLeft" fmla="*/ 79920 w 596880"/>
                <a:gd name="textAreaRight" fmla="*/ 516960 w 596880"/>
                <a:gd name="textAreaTop" fmla="*/ 242280 h 1193760"/>
                <a:gd name="textAreaBottom" fmla="*/ 876600 h 11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75" stAng="-5400000" swAng="-5400000"/>
                  <a:lnTo>
                    <a:pt x="0" y="11475"/>
                  </a:lnTo>
                  <a:arcTo wR="21600" hR="8775" stAng="10800000" swAng="-3453591"/>
                  <a:lnTo>
                    <a:pt x="16200" y="21321"/>
                  </a:lnTo>
                  <a:lnTo>
                    <a:pt x="21600" y="18899"/>
                  </a:lnTo>
                  <a:lnTo>
                    <a:pt x="16200" y="15919"/>
                  </a:lnTo>
                  <a:lnTo>
                    <a:pt x="16200" y="17270"/>
                  </a:lnTo>
                  <a:arcTo wR="21600" hR="8775" stAng="7346409" swAng="3236432"/>
                  <a:lnTo>
                    <a:pt x="257" y="10125"/>
                  </a:lnTo>
                  <a:arcTo wR="21600" hR="8775" stAng="-10582841" swAng="5182841"/>
                  <a:close/>
                </a:path>
                <a:path fill="darkenLess" w="21600" h="21600">
                  <a:moveTo>
                    <a:pt x="21600" y="0"/>
                  </a:moveTo>
                  <a:arcTo wR="21600" hR="8775" stAng="-5400000" swAng="-5400000"/>
                  <a:lnTo>
                    <a:pt x="0" y="8775"/>
                  </a:lnTo>
                  <a:arcTo wR="21600" hR="8775" stAng="10800000" swAng="-217159"/>
                  <a:lnTo>
                    <a:pt x="257" y="10125"/>
                  </a:lnTo>
                  <a:arcTo wR="21600" hR="8775" stAng="-10582841" swAng="5182841"/>
                  <a:close/>
                </a:path>
              </a:pathLst>
            </a:custGeom>
            <a:solidFill>
              <a:srgbClr val="31859c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6" name="Connettore 2 9"/>
            <p:cNvCxnSpPr/>
            <p:nvPr/>
          </p:nvCxnSpPr>
          <p:spPr>
            <a:xfrm>
              <a:off x="5243760" y="4471920"/>
              <a:ext cx="1348560" cy="1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7" name="CasellaDiTesto 10"/>
            <p:cNvSpPr/>
            <p:nvPr/>
          </p:nvSpPr>
          <p:spPr>
            <a:xfrm>
              <a:off x="6758640" y="4214520"/>
              <a:ext cx="113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Lettura 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luminometr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mmagine 1" descr="Yamanaka Fig 6.jpg"/>
          <p:cNvPicPr/>
          <p:nvPr/>
        </p:nvPicPr>
        <p:blipFill>
          <a:blip r:embed="rId1"/>
          <a:stretch/>
        </p:blipFill>
        <p:spPr>
          <a:xfrm>
            <a:off x="1603440" y="50760"/>
            <a:ext cx="593712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CasellaDiTesto 1"/>
          <p:cNvSpPr/>
          <p:nvPr/>
        </p:nvSpPr>
        <p:spPr>
          <a:xfrm>
            <a:off x="601560" y="1558800"/>
            <a:ext cx="794088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Esaminare sempre una variabile per volta, mantenendo rigorosamente costanti tutte le altre condizioni sperimental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Ci possono essere variabili non ovvie o nascoste: nessun esperimento può considerarsi definitiv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 controlli, positivi e negativi, costituiscono parti essenziali di un esperimento scientif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 controlli possono riferirsi ad aspetti tecnici o biologici del sistema speriment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l controllo positivo verifica il buon funzionamento dell’esperimento e convalida i risultati negativ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l controllo negativo verifica la specificità dei risultati e fornisce una misura dell’eventuale segnale di fondo negli esperimenti quantitativ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CasellaDiTesto 5"/>
          <p:cNvSpPr/>
          <p:nvPr/>
        </p:nvSpPr>
        <p:spPr>
          <a:xfrm>
            <a:off x="619200" y="345960"/>
            <a:ext cx="7905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alibri"/>
              </a:rPr>
              <a:t>Punti notev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3"/>
          <p:cNvSpPr/>
          <p:nvPr/>
        </p:nvSpPr>
        <p:spPr>
          <a:xfrm>
            <a:off x="6719760" y="6173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 baseline="30000">
                <a:solidFill>
                  <a:srgbClr val="000000"/>
                </a:solidFill>
                <a:latin typeface="Arial"/>
              </a:rPr>
              <a:t>Science 282:1145–1147, 19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magine 1" descr="Human ES cells.jpg"/>
          <p:cNvPicPr/>
          <p:nvPr/>
        </p:nvPicPr>
        <p:blipFill>
          <a:blip r:embed="rId1"/>
          <a:stretch/>
        </p:blipFill>
        <p:spPr>
          <a:xfrm>
            <a:off x="1360440" y="749160"/>
            <a:ext cx="64231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magine 1" descr="Frogs.jpg"/>
          <p:cNvPicPr/>
          <p:nvPr/>
        </p:nvPicPr>
        <p:blipFill>
          <a:blip r:embed="rId1"/>
          <a:stretch/>
        </p:blipFill>
        <p:spPr>
          <a:xfrm>
            <a:off x="237960" y="2349360"/>
            <a:ext cx="8668080" cy="2028960"/>
          </a:xfrm>
          <a:prstGeom prst="rect">
            <a:avLst/>
          </a:prstGeom>
          <a:ln w="0">
            <a:noFill/>
          </a:ln>
        </p:spPr>
      </p:pic>
      <p:sp>
        <p:nvSpPr>
          <p:cNvPr id="53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programmazione di cellule somatiche tramite trapianto nucle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John Gurdon, 196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sellaDiTesto 1"/>
          <p:cNvSpPr/>
          <p:nvPr/>
        </p:nvSpPr>
        <p:spPr>
          <a:xfrm>
            <a:off x="6993000" y="62802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programmazione di cellule somatiche </a:t>
            </a:r>
            <a:r>
              <a:rPr b="0" lang="it-IT" sz="1800" spc="-1" strike="noStrike">
                <a:solidFill>
                  <a:srgbClr val="0000ff"/>
                </a:solidFill>
                <a:latin typeface="Calibri"/>
              </a:rPr>
              <a:t>di mammifer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ramite trapianto nucle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Ian Wilmut, 199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magine 4" descr="Dolly cloning process.jpg"/>
          <p:cNvPicPr/>
          <p:nvPr/>
        </p:nvPicPr>
        <p:blipFill>
          <a:blip r:embed="rId1"/>
          <a:srcRect l="0" t="8854" r="0" b="0"/>
          <a:stretch/>
        </p:blipFill>
        <p:spPr>
          <a:xfrm>
            <a:off x="66600" y="1417680"/>
            <a:ext cx="4299120" cy="2998800"/>
          </a:xfrm>
          <a:prstGeom prst="rect">
            <a:avLst/>
          </a:prstGeom>
          <a:ln w="0">
            <a:noFill/>
          </a:ln>
        </p:spPr>
      </p:pic>
      <p:pic>
        <p:nvPicPr>
          <p:cNvPr id="57" name="Immagine 3" descr="Dolly the sheep.jpg"/>
          <p:cNvPicPr/>
          <p:nvPr/>
        </p:nvPicPr>
        <p:blipFill>
          <a:blip r:embed="rId2"/>
          <a:stretch/>
        </p:blipFill>
        <p:spPr>
          <a:xfrm>
            <a:off x="4303800" y="3354480"/>
            <a:ext cx="4673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uppo 47"/>
          <p:cNvGrpSpPr/>
          <p:nvPr/>
        </p:nvGrpSpPr>
        <p:grpSpPr>
          <a:xfrm>
            <a:off x="863640" y="2090880"/>
            <a:ext cx="1981080" cy="882360"/>
            <a:chOff x="863640" y="2090880"/>
            <a:chExt cx="1981080" cy="882360"/>
          </a:xfrm>
        </p:grpSpPr>
        <p:sp>
          <p:nvSpPr>
            <p:cNvPr id="59" name="Freeform 10"/>
            <p:cNvSpPr/>
            <p:nvPr/>
          </p:nvSpPr>
          <p:spPr>
            <a:xfrm>
              <a:off x="863640" y="2090880"/>
              <a:ext cx="1981080" cy="882360"/>
            </a:xfrm>
            <a:custGeom>
              <a:avLst/>
              <a:gdLst/>
              <a:ahLst/>
              <a:rect l="l" t="t" r="r" b="b"/>
              <a:pathLst>
                <a:path w="664" h="328">
                  <a:moveTo>
                    <a:pt x="0" y="288"/>
                  </a:moveTo>
                  <a:cubicBezTo>
                    <a:pt x="16" y="282"/>
                    <a:pt x="32" y="277"/>
                    <a:pt x="48" y="272"/>
                  </a:cubicBezTo>
                  <a:cubicBezTo>
                    <a:pt x="56" y="269"/>
                    <a:pt x="72" y="264"/>
                    <a:pt x="72" y="264"/>
                  </a:cubicBezTo>
                  <a:cubicBezTo>
                    <a:pt x="92" y="233"/>
                    <a:pt x="120" y="219"/>
                    <a:pt x="144" y="192"/>
                  </a:cubicBezTo>
                  <a:cubicBezTo>
                    <a:pt x="173" y="156"/>
                    <a:pt x="182" y="136"/>
                    <a:pt x="224" y="112"/>
                  </a:cubicBezTo>
                  <a:cubicBezTo>
                    <a:pt x="277" y="31"/>
                    <a:pt x="397" y="11"/>
                    <a:pt x="488" y="0"/>
                  </a:cubicBezTo>
                  <a:cubicBezTo>
                    <a:pt x="533" y="2"/>
                    <a:pt x="578" y="3"/>
                    <a:pt x="624" y="8"/>
                  </a:cubicBezTo>
                  <a:cubicBezTo>
                    <a:pt x="637" y="9"/>
                    <a:pt x="664" y="2"/>
                    <a:pt x="664" y="16"/>
                  </a:cubicBezTo>
                  <a:cubicBezTo>
                    <a:pt x="664" y="29"/>
                    <a:pt x="637" y="20"/>
                    <a:pt x="624" y="24"/>
                  </a:cubicBezTo>
                  <a:cubicBezTo>
                    <a:pt x="592" y="31"/>
                    <a:pt x="560" y="51"/>
                    <a:pt x="536" y="72"/>
                  </a:cubicBezTo>
                  <a:cubicBezTo>
                    <a:pt x="474" y="124"/>
                    <a:pt x="527" y="80"/>
                    <a:pt x="488" y="136"/>
                  </a:cubicBezTo>
                  <a:cubicBezTo>
                    <a:pt x="457" y="178"/>
                    <a:pt x="469" y="141"/>
                    <a:pt x="432" y="184"/>
                  </a:cubicBezTo>
                  <a:cubicBezTo>
                    <a:pt x="399" y="220"/>
                    <a:pt x="401" y="238"/>
                    <a:pt x="368" y="264"/>
                  </a:cubicBezTo>
                  <a:cubicBezTo>
                    <a:pt x="321" y="300"/>
                    <a:pt x="324" y="294"/>
                    <a:pt x="272" y="312"/>
                  </a:cubicBezTo>
                  <a:cubicBezTo>
                    <a:pt x="264" y="314"/>
                    <a:pt x="248" y="320"/>
                    <a:pt x="248" y="320"/>
                  </a:cubicBezTo>
                  <a:cubicBezTo>
                    <a:pt x="148" y="315"/>
                    <a:pt x="81" y="328"/>
                    <a:pt x="0" y="28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1638360" y="2433600"/>
              <a:ext cx="215640" cy="2379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Ovale 46"/>
          <p:cNvSpPr/>
          <p:nvPr/>
        </p:nvSpPr>
        <p:spPr>
          <a:xfrm>
            <a:off x="1371600" y="4021200"/>
            <a:ext cx="76356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1747800" y="4218120"/>
            <a:ext cx="216000" cy="237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sellaDiTesto 49"/>
          <p:cNvSpPr/>
          <p:nvPr/>
        </p:nvSpPr>
        <p:spPr>
          <a:xfrm>
            <a:off x="896760" y="3059280"/>
            <a:ext cx="191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ellula soma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asellaDiTesto 51"/>
          <p:cNvSpPr/>
          <p:nvPr/>
        </p:nvSpPr>
        <p:spPr>
          <a:xfrm>
            <a:off x="795240" y="4900680"/>
            <a:ext cx="191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ellula staminale embr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po 62"/>
          <p:cNvGrpSpPr/>
          <p:nvPr/>
        </p:nvGrpSpPr>
        <p:grpSpPr>
          <a:xfrm>
            <a:off x="3657600" y="3247920"/>
            <a:ext cx="1981080" cy="970200"/>
            <a:chOff x="3657600" y="3247920"/>
            <a:chExt cx="1981080" cy="970200"/>
          </a:xfrm>
        </p:grpSpPr>
        <p:grpSp>
          <p:nvGrpSpPr>
            <p:cNvPr id="66" name="Gruppo 53"/>
            <p:cNvGrpSpPr/>
            <p:nvPr/>
          </p:nvGrpSpPr>
          <p:grpSpPr>
            <a:xfrm>
              <a:off x="3657600" y="3247920"/>
              <a:ext cx="1981080" cy="882720"/>
              <a:chOff x="3657600" y="3247920"/>
              <a:chExt cx="1981080" cy="882720"/>
            </a:xfrm>
          </p:grpSpPr>
          <p:sp>
            <p:nvSpPr>
              <p:cNvPr id="67" name="Freeform 10"/>
              <p:cNvSpPr/>
              <p:nvPr/>
            </p:nvSpPr>
            <p:spPr>
              <a:xfrm>
                <a:off x="3657600" y="3247920"/>
                <a:ext cx="1981080" cy="882720"/>
              </a:xfrm>
              <a:custGeom>
                <a:avLst/>
                <a:gdLst/>
                <a:ahLst/>
                <a:rect l="l" t="t" r="r" b="b"/>
                <a:pathLst>
                  <a:path w="664" h="328">
                    <a:moveTo>
                      <a:pt x="0" y="288"/>
                    </a:moveTo>
                    <a:cubicBezTo>
                      <a:pt x="16" y="282"/>
                      <a:pt x="32" y="277"/>
                      <a:pt x="48" y="272"/>
                    </a:cubicBezTo>
                    <a:cubicBezTo>
                      <a:pt x="56" y="269"/>
                      <a:pt x="72" y="264"/>
                      <a:pt x="72" y="264"/>
                    </a:cubicBezTo>
                    <a:cubicBezTo>
                      <a:pt x="92" y="233"/>
                      <a:pt x="120" y="219"/>
                      <a:pt x="144" y="192"/>
                    </a:cubicBezTo>
                    <a:cubicBezTo>
                      <a:pt x="173" y="156"/>
                      <a:pt x="182" y="136"/>
                      <a:pt x="224" y="112"/>
                    </a:cubicBezTo>
                    <a:cubicBezTo>
                      <a:pt x="277" y="31"/>
                      <a:pt x="397" y="11"/>
                      <a:pt x="488" y="0"/>
                    </a:cubicBezTo>
                    <a:cubicBezTo>
                      <a:pt x="533" y="2"/>
                      <a:pt x="578" y="3"/>
                      <a:pt x="624" y="8"/>
                    </a:cubicBezTo>
                    <a:cubicBezTo>
                      <a:pt x="637" y="9"/>
                      <a:pt x="664" y="2"/>
                      <a:pt x="664" y="16"/>
                    </a:cubicBezTo>
                    <a:cubicBezTo>
                      <a:pt x="664" y="29"/>
                      <a:pt x="637" y="20"/>
                      <a:pt x="624" y="24"/>
                    </a:cubicBezTo>
                    <a:cubicBezTo>
                      <a:pt x="592" y="31"/>
                      <a:pt x="560" y="51"/>
                      <a:pt x="536" y="72"/>
                    </a:cubicBezTo>
                    <a:cubicBezTo>
                      <a:pt x="474" y="124"/>
                      <a:pt x="527" y="80"/>
                      <a:pt x="488" y="136"/>
                    </a:cubicBezTo>
                    <a:cubicBezTo>
                      <a:pt x="457" y="178"/>
                      <a:pt x="469" y="141"/>
                      <a:pt x="432" y="184"/>
                    </a:cubicBezTo>
                    <a:cubicBezTo>
                      <a:pt x="399" y="220"/>
                      <a:pt x="401" y="238"/>
                      <a:pt x="368" y="264"/>
                    </a:cubicBezTo>
                    <a:cubicBezTo>
                      <a:pt x="321" y="300"/>
                      <a:pt x="324" y="294"/>
                      <a:pt x="272" y="312"/>
                    </a:cubicBezTo>
                    <a:cubicBezTo>
                      <a:pt x="264" y="314"/>
                      <a:pt x="248" y="320"/>
                      <a:pt x="248" y="320"/>
                    </a:cubicBezTo>
                    <a:cubicBezTo>
                      <a:pt x="148" y="315"/>
                      <a:pt x="81" y="328"/>
                      <a:pt x="0" y="2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Oval 11"/>
              <p:cNvSpPr/>
              <p:nvPr/>
            </p:nvSpPr>
            <p:spPr>
              <a:xfrm>
                <a:off x="4432320" y="3590640"/>
                <a:ext cx="215640" cy="237960"/>
              </a:xfrm>
              <a:prstGeom prst="ellipse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uppo 59"/>
            <p:cNvGrpSpPr/>
            <p:nvPr/>
          </p:nvGrpSpPr>
          <p:grpSpPr>
            <a:xfrm>
              <a:off x="4874760" y="3454200"/>
              <a:ext cx="763920" cy="763920"/>
              <a:chOff x="4874760" y="3454200"/>
              <a:chExt cx="763920" cy="763920"/>
            </a:xfrm>
          </p:grpSpPr>
          <p:sp>
            <p:nvSpPr>
              <p:cNvPr id="70" name="Ovale 60"/>
              <p:cNvSpPr/>
              <p:nvPr/>
            </p:nvSpPr>
            <p:spPr>
              <a:xfrm>
                <a:off x="4874760" y="3454200"/>
                <a:ext cx="763920" cy="763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5251680" y="3650400"/>
                <a:ext cx="21600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" name="Rettangolo 52"/>
            <p:cNvSpPr/>
            <p:nvPr/>
          </p:nvSpPr>
          <p:spPr>
            <a:xfrm>
              <a:off x="4813200" y="3454200"/>
              <a:ext cx="422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3" name="Connettore 2 17409"/>
          <p:cNvCxnSpPr/>
          <p:nvPr/>
        </p:nvCxnSpPr>
        <p:spPr>
          <a:xfrm>
            <a:off x="2951280" y="2886120"/>
            <a:ext cx="707040" cy="481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Connettore 2 66"/>
          <p:cNvCxnSpPr/>
          <p:nvPr/>
        </p:nvCxnSpPr>
        <p:spPr>
          <a:xfrm flipV="1">
            <a:off x="2470320" y="4115880"/>
            <a:ext cx="918000" cy="23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Connettore 2 69"/>
          <p:cNvCxnSpPr/>
          <p:nvPr/>
        </p:nvCxnSpPr>
        <p:spPr>
          <a:xfrm flipV="1">
            <a:off x="5951520" y="3591720"/>
            <a:ext cx="829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Gruppo 17414"/>
          <p:cNvGrpSpPr/>
          <p:nvPr/>
        </p:nvGrpSpPr>
        <p:grpSpPr>
          <a:xfrm>
            <a:off x="7151760" y="3114720"/>
            <a:ext cx="1073160" cy="1073160"/>
            <a:chOff x="7151760" y="3114720"/>
            <a:chExt cx="1073160" cy="1073160"/>
          </a:xfrm>
        </p:grpSpPr>
        <p:sp>
          <p:nvSpPr>
            <p:cNvPr id="77" name="Ovale 73"/>
            <p:cNvSpPr/>
            <p:nvPr/>
          </p:nvSpPr>
          <p:spPr>
            <a:xfrm>
              <a:off x="7151760" y="3114720"/>
              <a:ext cx="1073160" cy="10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7805520" y="3585960"/>
              <a:ext cx="215640" cy="237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7432920" y="3416400"/>
              <a:ext cx="215640" cy="237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CasellaDiTesto 78"/>
          <p:cNvSpPr/>
          <p:nvPr/>
        </p:nvSpPr>
        <p:spPr>
          <a:xfrm>
            <a:off x="3691080" y="4302000"/>
            <a:ext cx="19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Fusione cellula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79"/>
          <p:cNvSpPr/>
          <p:nvPr/>
        </p:nvSpPr>
        <p:spPr>
          <a:xfrm>
            <a:off x="6689880" y="4302000"/>
            <a:ext cx="19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terocario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programmazione di cellule somatiche tramite fusione cellul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Takashi Tada, 200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4"/>
          <p:cNvSpPr/>
          <p:nvPr/>
        </p:nvSpPr>
        <p:spPr>
          <a:xfrm>
            <a:off x="3017880" y="325584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5"/>
          <p:cNvSpPr/>
          <p:nvPr/>
        </p:nvSpPr>
        <p:spPr>
          <a:xfrm>
            <a:off x="3405240" y="3427560"/>
            <a:ext cx="10800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484360" y="378936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9"/>
          <p:cNvSpPr/>
          <p:nvPr/>
        </p:nvSpPr>
        <p:spPr>
          <a:xfrm>
            <a:off x="2871720" y="3960720"/>
            <a:ext cx="10800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3398760" y="356076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3786120" y="3732120"/>
            <a:ext cx="10800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2865600" y="409428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3252960" y="4265640"/>
            <a:ext cx="10764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7991640" y="35607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17"/>
          <p:cNvSpPr/>
          <p:nvPr/>
        </p:nvSpPr>
        <p:spPr>
          <a:xfrm>
            <a:off x="8379000" y="3732120"/>
            <a:ext cx="10764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9"/>
          <p:cNvSpPr/>
          <p:nvPr/>
        </p:nvSpPr>
        <p:spPr>
          <a:xfrm>
            <a:off x="7077240" y="42465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0"/>
          <p:cNvSpPr/>
          <p:nvPr/>
        </p:nvSpPr>
        <p:spPr>
          <a:xfrm>
            <a:off x="7464600" y="4417920"/>
            <a:ext cx="10764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1"/>
          <p:cNvSpPr/>
          <p:nvPr/>
        </p:nvSpPr>
        <p:spPr>
          <a:xfrm>
            <a:off x="6238800" y="2798640"/>
            <a:ext cx="2743200" cy="1870200"/>
          </a:xfrm>
          <a:custGeom>
            <a:avLst/>
            <a:gdLst/>
            <a:ahLst/>
            <a:rect l="l" t="t" r="r" b="b"/>
            <a:pathLst>
              <a:path w="2167" h="1476">
                <a:moveTo>
                  <a:pt x="295" y="1108"/>
                </a:moveTo>
                <a:cubicBezTo>
                  <a:pt x="433" y="1061"/>
                  <a:pt x="584" y="1004"/>
                  <a:pt x="703" y="916"/>
                </a:cubicBezTo>
                <a:cubicBezTo>
                  <a:pt x="768" y="866"/>
                  <a:pt x="829" y="803"/>
                  <a:pt x="895" y="756"/>
                </a:cubicBezTo>
                <a:cubicBezTo>
                  <a:pt x="965" y="705"/>
                  <a:pt x="1033" y="665"/>
                  <a:pt x="1103" y="612"/>
                </a:cubicBezTo>
                <a:cubicBezTo>
                  <a:pt x="1162" y="566"/>
                  <a:pt x="1230" y="501"/>
                  <a:pt x="1287" y="452"/>
                </a:cubicBezTo>
                <a:cubicBezTo>
                  <a:pt x="1371" y="377"/>
                  <a:pt x="1318" y="398"/>
                  <a:pt x="1375" y="380"/>
                </a:cubicBezTo>
                <a:cubicBezTo>
                  <a:pt x="1547" y="246"/>
                  <a:pt x="1736" y="113"/>
                  <a:pt x="1951" y="60"/>
                </a:cubicBezTo>
                <a:cubicBezTo>
                  <a:pt x="1959" y="52"/>
                  <a:pt x="1967" y="44"/>
                  <a:pt x="1975" y="36"/>
                </a:cubicBezTo>
                <a:cubicBezTo>
                  <a:pt x="1983" y="25"/>
                  <a:pt x="1986" y="0"/>
                  <a:pt x="1999" y="4"/>
                </a:cubicBezTo>
                <a:cubicBezTo>
                  <a:pt x="2017" y="9"/>
                  <a:pt x="2011" y="49"/>
                  <a:pt x="2031" y="52"/>
                </a:cubicBezTo>
                <a:cubicBezTo>
                  <a:pt x="2055" y="54"/>
                  <a:pt x="2079" y="57"/>
                  <a:pt x="2103" y="60"/>
                </a:cubicBezTo>
                <a:cubicBezTo>
                  <a:pt x="2095" y="65"/>
                  <a:pt x="2080" y="66"/>
                  <a:pt x="2079" y="76"/>
                </a:cubicBezTo>
                <a:cubicBezTo>
                  <a:pt x="2074" y="105"/>
                  <a:pt x="2121" y="123"/>
                  <a:pt x="2135" y="132"/>
                </a:cubicBezTo>
                <a:cubicBezTo>
                  <a:pt x="2127" y="140"/>
                  <a:pt x="2112" y="144"/>
                  <a:pt x="2111" y="156"/>
                </a:cubicBezTo>
                <a:cubicBezTo>
                  <a:pt x="2108" y="170"/>
                  <a:pt x="2156" y="228"/>
                  <a:pt x="2167" y="244"/>
                </a:cubicBezTo>
                <a:cubicBezTo>
                  <a:pt x="2125" y="252"/>
                  <a:pt x="2089" y="261"/>
                  <a:pt x="2047" y="268"/>
                </a:cubicBezTo>
                <a:cubicBezTo>
                  <a:pt x="2017" y="277"/>
                  <a:pt x="1997" y="292"/>
                  <a:pt x="1967" y="300"/>
                </a:cubicBezTo>
                <a:cubicBezTo>
                  <a:pt x="1927" y="331"/>
                  <a:pt x="1887" y="355"/>
                  <a:pt x="1839" y="372"/>
                </a:cubicBezTo>
                <a:cubicBezTo>
                  <a:pt x="1796" y="414"/>
                  <a:pt x="1736" y="433"/>
                  <a:pt x="1687" y="468"/>
                </a:cubicBezTo>
                <a:cubicBezTo>
                  <a:pt x="1642" y="499"/>
                  <a:pt x="1681" y="482"/>
                  <a:pt x="1647" y="524"/>
                </a:cubicBezTo>
                <a:cubicBezTo>
                  <a:pt x="1640" y="531"/>
                  <a:pt x="1630" y="533"/>
                  <a:pt x="1623" y="540"/>
                </a:cubicBezTo>
                <a:cubicBezTo>
                  <a:pt x="1584" y="572"/>
                  <a:pt x="1544" y="606"/>
                  <a:pt x="1511" y="644"/>
                </a:cubicBezTo>
                <a:cubicBezTo>
                  <a:pt x="1482" y="675"/>
                  <a:pt x="1456" y="705"/>
                  <a:pt x="1423" y="732"/>
                </a:cubicBezTo>
                <a:cubicBezTo>
                  <a:pt x="1407" y="743"/>
                  <a:pt x="1375" y="764"/>
                  <a:pt x="1375" y="764"/>
                </a:cubicBezTo>
                <a:cubicBezTo>
                  <a:pt x="1321" y="844"/>
                  <a:pt x="1404" y="731"/>
                  <a:pt x="1327" y="796"/>
                </a:cubicBezTo>
                <a:cubicBezTo>
                  <a:pt x="1317" y="803"/>
                  <a:pt x="1319" y="819"/>
                  <a:pt x="1311" y="828"/>
                </a:cubicBezTo>
                <a:cubicBezTo>
                  <a:pt x="1302" y="836"/>
                  <a:pt x="1288" y="836"/>
                  <a:pt x="1279" y="844"/>
                </a:cubicBezTo>
                <a:cubicBezTo>
                  <a:pt x="1266" y="853"/>
                  <a:pt x="1259" y="867"/>
                  <a:pt x="1247" y="876"/>
                </a:cubicBezTo>
                <a:cubicBezTo>
                  <a:pt x="1216" y="896"/>
                  <a:pt x="1180" y="909"/>
                  <a:pt x="1151" y="932"/>
                </a:cubicBezTo>
                <a:cubicBezTo>
                  <a:pt x="993" y="1050"/>
                  <a:pt x="798" y="1226"/>
                  <a:pt x="599" y="1260"/>
                </a:cubicBezTo>
                <a:cubicBezTo>
                  <a:pt x="577" y="1270"/>
                  <a:pt x="558" y="1287"/>
                  <a:pt x="535" y="1292"/>
                </a:cubicBezTo>
                <a:cubicBezTo>
                  <a:pt x="513" y="1296"/>
                  <a:pt x="491" y="1299"/>
                  <a:pt x="471" y="1308"/>
                </a:cubicBezTo>
                <a:cubicBezTo>
                  <a:pt x="396" y="1341"/>
                  <a:pt x="450" y="1325"/>
                  <a:pt x="391" y="1340"/>
                </a:cubicBezTo>
                <a:cubicBezTo>
                  <a:pt x="363" y="1358"/>
                  <a:pt x="334" y="1369"/>
                  <a:pt x="303" y="1380"/>
                </a:cubicBezTo>
                <a:cubicBezTo>
                  <a:pt x="295" y="1388"/>
                  <a:pt x="288" y="1397"/>
                  <a:pt x="279" y="1404"/>
                </a:cubicBezTo>
                <a:cubicBezTo>
                  <a:pt x="271" y="1408"/>
                  <a:pt x="261" y="1406"/>
                  <a:pt x="255" y="1412"/>
                </a:cubicBezTo>
                <a:cubicBezTo>
                  <a:pt x="244" y="1420"/>
                  <a:pt x="240" y="1434"/>
                  <a:pt x="231" y="1444"/>
                </a:cubicBezTo>
                <a:cubicBezTo>
                  <a:pt x="218" y="1456"/>
                  <a:pt x="204" y="1465"/>
                  <a:pt x="191" y="1476"/>
                </a:cubicBezTo>
                <a:cubicBezTo>
                  <a:pt x="185" y="1465"/>
                  <a:pt x="185" y="1449"/>
                  <a:pt x="175" y="1444"/>
                </a:cubicBezTo>
                <a:cubicBezTo>
                  <a:pt x="102" y="1407"/>
                  <a:pt x="68" y="1454"/>
                  <a:pt x="119" y="1404"/>
                </a:cubicBezTo>
                <a:cubicBezTo>
                  <a:pt x="86" y="1338"/>
                  <a:pt x="47" y="1333"/>
                  <a:pt x="175" y="1380"/>
                </a:cubicBezTo>
                <a:cubicBezTo>
                  <a:pt x="191" y="1372"/>
                  <a:pt x="215" y="1372"/>
                  <a:pt x="223" y="1356"/>
                </a:cubicBezTo>
                <a:cubicBezTo>
                  <a:pt x="227" y="1346"/>
                  <a:pt x="200" y="1352"/>
                  <a:pt x="191" y="1348"/>
                </a:cubicBezTo>
                <a:cubicBezTo>
                  <a:pt x="179" y="1342"/>
                  <a:pt x="170" y="1330"/>
                  <a:pt x="159" y="1324"/>
                </a:cubicBezTo>
                <a:cubicBezTo>
                  <a:pt x="134" y="1310"/>
                  <a:pt x="103" y="1312"/>
                  <a:pt x="79" y="1300"/>
                </a:cubicBezTo>
                <a:cubicBezTo>
                  <a:pt x="66" y="1293"/>
                  <a:pt x="105" y="1305"/>
                  <a:pt x="119" y="1308"/>
                </a:cubicBezTo>
                <a:cubicBezTo>
                  <a:pt x="153" y="1302"/>
                  <a:pt x="189" y="1303"/>
                  <a:pt x="223" y="1292"/>
                </a:cubicBezTo>
                <a:cubicBezTo>
                  <a:pt x="261" y="1279"/>
                  <a:pt x="223" y="1244"/>
                  <a:pt x="215" y="1236"/>
                </a:cubicBezTo>
                <a:cubicBezTo>
                  <a:pt x="175" y="1196"/>
                  <a:pt x="136" y="1151"/>
                  <a:pt x="87" y="1124"/>
                </a:cubicBezTo>
                <a:cubicBezTo>
                  <a:pt x="69" y="1114"/>
                  <a:pt x="14" y="1091"/>
                  <a:pt x="7" y="1076"/>
                </a:cubicBezTo>
                <a:cubicBezTo>
                  <a:pt x="0" y="1063"/>
                  <a:pt x="33" y="1087"/>
                  <a:pt x="47" y="1092"/>
                </a:cubicBezTo>
                <a:cubicBezTo>
                  <a:pt x="116" y="1117"/>
                  <a:pt x="94" y="1107"/>
                  <a:pt x="191" y="1116"/>
                </a:cubicBezTo>
                <a:cubicBezTo>
                  <a:pt x="225" y="1127"/>
                  <a:pt x="274" y="1149"/>
                  <a:pt x="295" y="110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6892920" y="417024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7229520" y="401796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4"/>
          <p:cNvSpPr/>
          <p:nvPr/>
        </p:nvSpPr>
        <p:spPr>
          <a:xfrm>
            <a:off x="7534440" y="3789360"/>
            <a:ext cx="10764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25"/>
          <p:cNvSpPr/>
          <p:nvPr/>
        </p:nvSpPr>
        <p:spPr>
          <a:xfrm>
            <a:off x="7883640" y="348444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8188200" y="3214800"/>
            <a:ext cx="108000" cy="11736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5154480" y="325584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5541840" y="342756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4621320" y="37893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4"/>
          <p:cNvSpPr/>
          <p:nvPr/>
        </p:nvSpPr>
        <p:spPr>
          <a:xfrm>
            <a:off x="5008680" y="396072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5"/>
          <p:cNvSpPr/>
          <p:nvPr/>
        </p:nvSpPr>
        <p:spPr>
          <a:xfrm>
            <a:off x="5535720" y="35607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5923080" y="373212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5002200" y="409428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38"/>
          <p:cNvSpPr/>
          <p:nvPr/>
        </p:nvSpPr>
        <p:spPr>
          <a:xfrm>
            <a:off x="5389560" y="426564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42"/>
          <p:cNvSpPr/>
          <p:nvPr/>
        </p:nvSpPr>
        <p:spPr>
          <a:xfrm>
            <a:off x="4178160" y="38656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6372360" y="38656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uppo 45"/>
          <p:cNvGrpSpPr/>
          <p:nvPr/>
        </p:nvGrpSpPr>
        <p:grpSpPr>
          <a:xfrm>
            <a:off x="928800" y="2971440"/>
            <a:ext cx="752400" cy="849240"/>
            <a:chOff x="928800" y="2971440"/>
            <a:chExt cx="752400" cy="849240"/>
          </a:xfrm>
        </p:grpSpPr>
        <p:sp>
          <p:nvSpPr>
            <p:cNvPr id="112" name="Figura a mano libera 43"/>
            <p:cNvSpPr/>
            <p:nvPr/>
          </p:nvSpPr>
          <p:spPr>
            <a:xfrm flipH="1" flipV="1">
              <a:off x="928800" y="2971080"/>
              <a:ext cx="752400" cy="84924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5"/>
            <p:cNvSpPr/>
            <p:nvPr/>
          </p:nvSpPr>
          <p:spPr>
            <a:xfrm flipH="1" flipV="1">
              <a:off x="1267200" y="3408120"/>
              <a:ext cx="8712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uppo 46"/>
          <p:cNvGrpSpPr/>
          <p:nvPr/>
        </p:nvGrpSpPr>
        <p:grpSpPr>
          <a:xfrm>
            <a:off x="1625400" y="2958840"/>
            <a:ext cx="750600" cy="849240"/>
            <a:chOff x="1625400" y="2958840"/>
            <a:chExt cx="750600" cy="849240"/>
          </a:xfrm>
        </p:grpSpPr>
        <p:sp>
          <p:nvSpPr>
            <p:cNvPr id="115" name="Figura a mano libera 47"/>
            <p:cNvSpPr/>
            <p:nvPr/>
          </p:nvSpPr>
          <p:spPr>
            <a:xfrm flipH="1" flipV="1">
              <a:off x="1625040" y="2958480"/>
              <a:ext cx="750600" cy="84924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Oval 5"/>
            <p:cNvSpPr/>
            <p:nvPr/>
          </p:nvSpPr>
          <p:spPr>
            <a:xfrm flipH="1" flipV="1">
              <a:off x="1963440" y="3395520"/>
              <a:ext cx="8568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uppo 49"/>
          <p:cNvGrpSpPr/>
          <p:nvPr/>
        </p:nvGrpSpPr>
        <p:grpSpPr>
          <a:xfrm>
            <a:off x="928800" y="3655800"/>
            <a:ext cx="752400" cy="849240"/>
            <a:chOff x="928800" y="3655800"/>
            <a:chExt cx="752400" cy="849240"/>
          </a:xfrm>
        </p:grpSpPr>
        <p:sp>
          <p:nvSpPr>
            <p:cNvPr id="118" name="Figura a mano libera 50"/>
            <p:cNvSpPr/>
            <p:nvPr/>
          </p:nvSpPr>
          <p:spPr>
            <a:xfrm flipH="1" flipV="1">
              <a:off x="928800" y="3655440"/>
              <a:ext cx="752400" cy="84924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5"/>
            <p:cNvSpPr/>
            <p:nvPr/>
          </p:nvSpPr>
          <p:spPr>
            <a:xfrm flipH="1" flipV="1">
              <a:off x="1267200" y="4092480"/>
              <a:ext cx="8712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uppo 52"/>
          <p:cNvGrpSpPr/>
          <p:nvPr/>
        </p:nvGrpSpPr>
        <p:grpSpPr>
          <a:xfrm>
            <a:off x="266760" y="3632040"/>
            <a:ext cx="752400" cy="849600"/>
            <a:chOff x="266760" y="3632040"/>
            <a:chExt cx="752400" cy="849600"/>
          </a:xfrm>
        </p:grpSpPr>
        <p:sp>
          <p:nvSpPr>
            <p:cNvPr id="121" name="Figura a mano libera 53"/>
            <p:cNvSpPr/>
            <p:nvPr/>
          </p:nvSpPr>
          <p:spPr>
            <a:xfrm flipH="1" flipV="1">
              <a:off x="266400" y="3632040"/>
              <a:ext cx="752400" cy="84960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 flipH="1" flipV="1">
              <a:off x="605160" y="4069080"/>
              <a:ext cx="8712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Line 42"/>
          <p:cNvSpPr/>
          <p:nvPr/>
        </p:nvSpPr>
        <p:spPr>
          <a:xfrm>
            <a:off x="2097000" y="38656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versione di fibroblasti in mioblasti tramite l’espressione di un singolo g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Andrew Lassar, 198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aetta 99"/>
          <p:cNvSpPr/>
          <p:nvPr/>
        </p:nvSpPr>
        <p:spPr>
          <a:xfrm flipH="1">
            <a:off x="2562120" y="2668680"/>
            <a:ext cx="455760" cy="9079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sellaDiTesto 100"/>
          <p:cNvSpPr/>
          <p:nvPr/>
        </p:nvSpPr>
        <p:spPr>
          <a:xfrm>
            <a:off x="2413080" y="22050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My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asellaDiTesto 101"/>
          <p:cNvSpPr/>
          <p:nvPr/>
        </p:nvSpPr>
        <p:spPr>
          <a:xfrm>
            <a:off x="59688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Fibrobla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asellaDiTesto 102"/>
          <p:cNvSpPr/>
          <p:nvPr/>
        </p:nvSpPr>
        <p:spPr>
          <a:xfrm>
            <a:off x="273384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obla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103"/>
          <p:cNvSpPr/>
          <p:nvPr/>
        </p:nvSpPr>
        <p:spPr>
          <a:xfrm>
            <a:off x="482436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oci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asellaDiTesto 104"/>
          <p:cNvSpPr/>
          <p:nvPr/>
        </p:nvSpPr>
        <p:spPr>
          <a:xfrm>
            <a:off x="700560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otu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Yamanaka Fig 1.jpg"/>
          <p:cNvPicPr/>
          <p:nvPr/>
        </p:nvPicPr>
        <p:blipFill>
          <a:blip r:embed="rId1"/>
          <a:srcRect l="0" t="0" r="0" b="49521"/>
          <a:stretch/>
        </p:blipFill>
        <p:spPr>
          <a:xfrm>
            <a:off x="493560" y="1062000"/>
            <a:ext cx="8588520" cy="470844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3"/>
          <p:cNvSpPr/>
          <p:nvPr/>
        </p:nvSpPr>
        <p:spPr>
          <a:xfrm>
            <a:off x="6170760" y="351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 esperimento deve isolare una sola variabile, detta </a:t>
            </a:r>
            <a:r>
              <a:rPr b="0" i="1" lang="it-IT" sz="1400" spc="-1" strike="noStrike">
                <a:solidFill>
                  <a:srgbClr val="0000ff"/>
                </a:solidFill>
                <a:latin typeface="Calibri"/>
              </a:rPr>
              <a:t>indipend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22"/>
          <p:cNvSpPr/>
          <p:nvPr/>
        </p:nvSpPr>
        <p:spPr>
          <a:xfrm>
            <a:off x="2981160" y="60948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olare la variabile allo stu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asellaDiTesto 4"/>
          <p:cNvSpPr/>
          <p:nvPr/>
        </p:nvSpPr>
        <p:spPr>
          <a:xfrm>
            <a:off x="601560" y="1477800"/>
            <a:ext cx="794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antenere costanti tutte le condizioni, ad eccezione della variabile allo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601560" y="2852640"/>
            <a:ext cx="794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tudio della proliferazione indotta dal fattore trascrizionale E2F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1"/>
          <p:cNvGrpSpPr/>
          <p:nvPr/>
        </p:nvGrpSpPr>
        <p:grpSpPr>
          <a:xfrm>
            <a:off x="1852560" y="4979880"/>
            <a:ext cx="3641760" cy="498600"/>
            <a:chOff x="1852560" y="4979880"/>
            <a:chExt cx="3641760" cy="498600"/>
          </a:xfrm>
        </p:grpSpPr>
        <p:grpSp>
          <p:nvGrpSpPr>
            <p:cNvPr id="137" name="Gruppo 14"/>
            <p:cNvGrpSpPr/>
            <p:nvPr/>
          </p:nvGrpSpPr>
          <p:grpSpPr>
            <a:xfrm>
              <a:off x="1852560" y="4979880"/>
              <a:ext cx="1412280" cy="493920"/>
              <a:chOff x="1852560" y="4979880"/>
              <a:chExt cx="1412280" cy="493920"/>
            </a:xfrm>
          </p:grpSpPr>
          <p:grpSp>
            <p:nvGrpSpPr>
              <p:cNvPr id="138" name="Gruppo 1"/>
              <p:cNvGrpSpPr/>
              <p:nvPr/>
            </p:nvGrpSpPr>
            <p:grpSpPr>
              <a:xfrm>
                <a:off x="1853640" y="4979880"/>
                <a:ext cx="1409760" cy="492840"/>
                <a:chOff x="1853640" y="4979880"/>
                <a:chExt cx="1409760" cy="492840"/>
              </a:xfrm>
            </p:grpSpPr>
            <p:sp>
              <p:nvSpPr>
                <p:cNvPr id="139" name="Oval 3"/>
                <p:cNvSpPr/>
                <p:nvPr/>
              </p:nvSpPr>
              <p:spPr>
                <a:xfrm>
                  <a:off x="1854000" y="4979880"/>
                  <a:ext cx="1409400" cy="135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Oval 4"/>
                <p:cNvSpPr/>
                <p:nvPr/>
              </p:nvSpPr>
              <p:spPr>
                <a:xfrm>
                  <a:off x="1853640" y="5337000"/>
                  <a:ext cx="1409400" cy="1357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Line 5"/>
                <p:cNvSpPr/>
                <p:nvPr/>
              </p:nvSpPr>
              <p:spPr>
                <a:xfrm>
                  <a:off x="1854000" y="5047920"/>
                  <a:ext cx="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Line 6"/>
                <p:cNvSpPr/>
                <p:nvPr/>
              </p:nvSpPr>
              <p:spPr>
                <a:xfrm>
                  <a:off x="3263400" y="5047920"/>
                  <a:ext cx="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3" name="AutoShape 7"/>
              <p:cNvSpPr/>
              <p:nvPr/>
            </p:nvSpPr>
            <p:spPr>
              <a:xfrm>
                <a:off x="1852560" y="5113080"/>
                <a:ext cx="1412280" cy="360720"/>
              </a:xfrm>
              <a:prstGeom prst="can">
                <a:avLst>
                  <a:gd name="adj" fmla="val 39259"/>
                </a:avLst>
              </a:prstGeom>
              <a:solidFill>
                <a:srgbClr val="ff71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" name="Gruppo 1"/>
            <p:cNvGrpSpPr/>
            <p:nvPr/>
          </p:nvGrpSpPr>
          <p:grpSpPr>
            <a:xfrm>
              <a:off x="4108680" y="4979880"/>
              <a:ext cx="1385640" cy="498600"/>
              <a:chOff x="4108680" y="4979880"/>
              <a:chExt cx="1385640" cy="498600"/>
            </a:xfrm>
          </p:grpSpPr>
          <p:sp>
            <p:nvSpPr>
              <p:cNvPr id="145" name="Oval 3"/>
              <p:cNvSpPr/>
              <p:nvPr/>
            </p:nvSpPr>
            <p:spPr>
              <a:xfrm>
                <a:off x="4108680" y="4979880"/>
                <a:ext cx="138564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Oval 4"/>
              <p:cNvSpPr/>
              <p:nvPr/>
            </p:nvSpPr>
            <p:spPr>
              <a:xfrm>
                <a:off x="4108680" y="5337000"/>
                <a:ext cx="1385640" cy="135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5"/>
              <p:cNvSpPr/>
              <p:nvPr/>
            </p:nvSpPr>
            <p:spPr>
              <a:xfrm>
                <a:off x="4108680" y="504792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5494320" y="504792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AutoShape 7"/>
              <p:cNvSpPr/>
              <p:nvPr/>
            </p:nvSpPr>
            <p:spPr>
              <a:xfrm>
                <a:off x="4108680" y="5118120"/>
                <a:ext cx="1385640" cy="360360"/>
              </a:xfrm>
              <a:prstGeom prst="can">
                <a:avLst>
                  <a:gd name="adj" fmla="val 39259"/>
                </a:avLst>
              </a:prstGeom>
              <a:solidFill>
                <a:srgbClr val="ff71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0" name="Gruppo 35"/>
          <p:cNvGrpSpPr/>
          <p:nvPr/>
        </p:nvGrpSpPr>
        <p:grpSpPr>
          <a:xfrm>
            <a:off x="6340320" y="4979880"/>
            <a:ext cx="1413000" cy="493920"/>
            <a:chOff x="6340320" y="4979880"/>
            <a:chExt cx="1413000" cy="493920"/>
          </a:xfrm>
        </p:grpSpPr>
        <p:grpSp>
          <p:nvGrpSpPr>
            <p:cNvPr id="151" name="Gruppo 1"/>
            <p:cNvGrpSpPr/>
            <p:nvPr/>
          </p:nvGrpSpPr>
          <p:grpSpPr>
            <a:xfrm>
              <a:off x="6341400" y="4979880"/>
              <a:ext cx="1410840" cy="492840"/>
              <a:chOff x="6341400" y="4979880"/>
              <a:chExt cx="1410840" cy="492840"/>
            </a:xfrm>
          </p:grpSpPr>
          <p:sp>
            <p:nvSpPr>
              <p:cNvPr id="152" name="Oval 3"/>
              <p:cNvSpPr/>
              <p:nvPr/>
            </p:nvSpPr>
            <p:spPr>
              <a:xfrm>
                <a:off x="6341760" y="4979880"/>
                <a:ext cx="141048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Oval 4"/>
              <p:cNvSpPr/>
              <p:nvPr/>
            </p:nvSpPr>
            <p:spPr>
              <a:xfrm>
                <a:off x="6341400" y="5337000"/>
                <a:ext cx="1410840" cy="1357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5"/>
              <p:cNvSpPr/>
              <p:nvPr/>
            </p:nvSpPr>
            <p:spPr>
              <a:xfrm>
                <a:off x="6341760" y="5047920"/>
                <a:ext cx="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7752240" y="5047920"/>
                <a:ext cx="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AutoShape 7"/>
            <p:cNvSpPr/>
            <p:nvPr/>
          </p:nvSpPr>
          <p:spPr>
            <a:xfrm>
              <a:off x="6340320" y="5113080"/>
              <a:ext cx="1413000" cy="36072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uppo 45"/>
          <p:cNvGrpSpPr/>
          <p:nvPr/>
        </p:nvGrpSpPr>
        <p:grpSpPr>
          <a:xfrm>
            <a:off x="4457880" y="3884760"/>
            <a:ext cx="677520" cy="677880"/>
            <a:chOff x="4457880" y="3884760"/>
            <a:chExt cx="677520" cy="677880"/>
          </a:xfrm>
        </p:grpSpPr>
        <p:sp>
          <p:nvSpPr>
            <p:cNvPr id="158" name="Ovale 42"/>
            <p:cNvSpPr/>
            <p:nvPr/>
          </p:nvSpPr>
          <p:spPr>
            <a:xfrm>
              <a:off x="4457880" y="3884760"/>
              <a:ext cx="677520" cy="67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CasellaDiTesto 43"/>
            <p:cNvSpPr/>
            <p:nvPr/>
          </p:nvSpPr>
          <p:spPr>
            <a:xfrm>
              <a:off x="4503960" y="4069440"/>
              <a:ext cx="58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E2F-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CasellaDiTesto 46"/>
          <p:cNvSpPr/>
          <p:nvPr/>
        </p:nvSpPr>
        <p:spPr>
          <a:xfrm>
            <a:off x="601560" y="579420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. di cellu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po 48 o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asellaDiTesto 51"/>
          <p:cNvSpPr/>
          <p:nvPr/>
        </p:nvSpPr>
        <p:spPr>
          <a:xfrm>
            <a:off x="2028960" y="590220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asellaDiTesto 52"/>
          <p:cNvSpPr/>
          <p:nvPr/>
        </p:nvSpPr>
        <p:spPr>
          <a:xfrm>
            <a:off x="4272120" y="590220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2x10</a:t>
            </a:r>
            <a:r>
              <a:rPr b="0" lang="it-IT" sz="1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uppo 54"/>
          <p:cNvGrpSpPr/>
          <p:nvPr/>
        </p:nvGrpSpPr>
        <p:grpSpPr>
          <a:xfrm>
            <a:off x="6703920" y="3884760"/>
            <a:ext cx="677880" cy="677880"/>
            <a:chOff x="6703920" y="3884760"/>
            <a:chExt cx="677880" cy="677880"/>
          </a:xfrm>
        </p:grpSpPr>
        <p:sp>
          <p:nvSpPr>
            <p:cNvPr id="164" name="Ovale 55"/>
            <p:cNvSpPr/>
            <p:nvPr/>
          </p:nvSpPr>
          <p:spPr>
            <a:xfrm>
              <a:off x="6703920" y="3884760"/>
              <a:ext cx="677880" cy="67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CasellaDiTesto 56"/>
            <p:cNvSpPr/>
            <p:nvPr/>
          </p:nvSpPr>
          <p:spPr>
            <a:xfrm>
              <a:off x="6746400" y="4069440"/>
              <a:ext cx="1846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CasellaDiTesto 57"/>
          <p:cNvSpPr/>
          <p:nvPr/>
        </p:nvSpPr>
        <p:spPr>
          <a:xfrm>
            <a:off x="6518160" y="590220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9x10</a:t>
            </a:r>
            <a:r>
              <a:rPr b="0" lang="it-IT" sz="1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1:19:00Z</dcterms:created>
  <dc:creator>Marco Crescenzi</dc:creator>
  <dc:description/>
  <dc:language>en-US</dc:language>
  <cp:lastModifiedBy>Crescenzi Marco</cp:lastModifiedBy>
  <cp:lastPrinted>2018-03-08T08:44:14Z</cp:lastPrinted>
  <dcterms:modified xsi:type="dcterms:W3CDTF">2020-10-20T11:47:22Z</dcterms:modified>
  <cp:revision>118</cp:revision>
  <dc:subject/>
  <dc:title>Presentazione di PowerPoint</dc:title>
</cp:coreProperties>
</file>